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ED2-8AA7-41F6-8C40-84BA8BD3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021-0D7F-4F6A-BD12-04027545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67A-F2F5-4A83-97BA-CE52636B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750-A56A-4CCE-A2E9-0B2A5049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31F-0100-4224-A467-B218C89C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FC2-B12E-44EB-A33D-F5FBBC12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4AB-E052-4BFB-91CE-8728C0CE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FD4-884A-41C6-AE2D-07B68C3A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6EF-32F1-4EC7-B507-FB1D6CC1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731-1E38-476F-BC37-C65FD83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137-E927-4326-9957-48854172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EF2-B0A4-424C-B183-1C799277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8038-8C36-4191-8AAD-8A182C6C5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stal 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2003,2004,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arks of 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ches become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435640" y="1249200"/>
            <a:ext cx="3714840" cy="5348520"/>
            <a:chOff x="5435640" y="1249200"/>
            <a:chExt cx="3714840" cy="5348520"/>
          </a:xfrm>
        </p:grpSpPr>
        <p:grpSp>
          <p:nvGrpSpPr>
            <p:cNvPr id="44" name=""/>
            <p:cNvGrpSpPr/>
            <p:nvPr/>
          </p:nvGrpSpPr>
          <p:grpSpPr>
            <a:xfrm>
              <a:off x="5435640" y="1249200"/>
              <a:ext cx="3714840" cy="5348520"/>
              <a:chOff x="5435640" y="1249200"/>
              <a:chExt cx="3714840" cy="53485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5435640" y="1249200"/>
              <a:ext cx="3714840" cy="53485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435640" y="1249200"/>
                        <a:ext cx="3714840" cy="534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" name=""/>
              <p:cNvSpPr/>
              <p:nvPr/>
            </p:nvSpPr>
            <p:spPr>
              <a:xfrm flipV="1">
                <a:off x="8435880" y="1851120"/>
                <a:ext cx="0" cy="29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99240" y="1884960"/>
                <a:ext cx="268560" cy="25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6293160" y="14504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rius Hot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51040" y="5171040"/>
              <a:ext cx="147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rnomorets (restaura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354000" y="5477760"/>
              <a:ext cx="79704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395480" y="1578240"/>
              <a:ext cx="4903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8360" y="3933720"/>
            <a:ext cx="4966920" cy="2734200"/>
            <a:chOff x="468360" y="3933720"/>
            <a:chExt cx="4966920" cy="2734200"/>
          </a:xfrm>
        </p:grpSpPr>
        <p:pic>
          <p:nvPicPr>
            <p:cNvPr id="54" name="" descr=""/>
            <p:cNvPicPr/>
            <p:nvPr/>
          </p:nvPicPr>
          <p:blipFill>
            <a:blip r:embed="rId3"/>
            <a:srcRect l="8845" t="26015" r="29961" b="3035"/>
            <a:stretch/>
          </p:blipFill>
          <p:spPr>
            <a:xfrm>
              <a:off x="468360" y="3933720"/>
              <a:ext cx="4849920" cy="270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0758200">
              <a:off x="2805840" y="5445000"/>
              <a:ext cx="875880" cy="349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21560" y="6111000"/>
              <a:ext cx="291240" cy="2343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39480" y="6503760"/>
              <a:ext cx="292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2720" y="5861520"/>
              <a:ext cx="1285560" cy="408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1800" y="6036480"/>
              <a:ext cx="21034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tificial is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 of measur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97800" y="6094440"/>
              <a:ext cx="232920" cy="1760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8:47:43Z</dcterms:created>
  <dc:creator>-</dc:creator>
  <dc:description/>
  <dc:language>en-US</dc:language>
  <cp:lastModifiedBy>-</cp:lastModifiedBy>
  <dcterms:modified xsi:type="dcterms:W3CDTF">2007-10-06T09:42:25Z</dcterms:modified>
  <cp:revision>6</cp:revision>
  <dc:subject/>
  <dc:title>Slide 1</dc:title>
</cp:coreProperties>
</file>