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055-65A8-4798-8BD7-04ED3EB4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DE9-2F62-437B-96F2-F2C74E4D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53B4-33A9-449D-941C-4275FCDD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BFEE-BA4C-4CF2-8D55-F41B2F0B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1A68-C84B-4D69-8623-8E305A3F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5A2E-B4A7-4CFA-9E35-15EBFC84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90DE-F41F-4D72-8D40-5DE30494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DA41-1ED2-4879-BB28-B8479A2B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09D-D91E-4680-BA26-F7165C102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A410-9955-4735-A5EC-7605661B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2DF1-7739-455A-BCC3-82B39528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79B-34F9-4515-92DE-9205C652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635B-50C7-4E91-AD83-1BD99912E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astal morph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2003,2004,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 marks of ero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ches become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435640" y="1249200"/>
            <a:ext cx="3714840" cy="5348520"/>
            <a:chOff x="5435640" y="1249200"/>
            <a:chExt cx="3714840" cy="5348520"/>
          </a:xfrm>
        </p:grpSpPr>
        <p:grpSp>
          <p:nvGrpSpPr>
            <p:cNvPr id="44" name=""/>
            <p:cNvGrpSpPr/>
            <p:nvPr/>
          </p:nvGrpSpPr>
          <p:grpSpPr>
            <a:xfrm>
              <a:off x="5435640" y="1249200"/>
              <a:ext cx="3714840" cy="5348520"/>
              <a:chOff x="5435640" y="1249200"/>
              <a:chExt cx="3714840" cy="53485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5435640" y="1249200"/>
              <a:ext cx="3714840" cy="534852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435640" y="1249200"/>
                        <a:ext cx="3714840" cy="5348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7" name=""/>
              <p:cNvSpPr/>
              <p:nvPr/>
            </p:nvSpPr>
            <p:spPr>
              <a:xfrm flipV="1">
                <a:off x="8435880" y="1851120"/>
                <a:ext cx="0" cy="297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499240" y="1884960"/>
                <a:ext cx="268560" cy="25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6293160" y="1450440"/>
              <a:ext cx="134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rius Hot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51040" y="5171040"/>
              <a:ext cx="147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rnomorets (restauran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354000" y="5477760"/>
              <a:ext cx="797040" cy="18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7395480" y="1578240"/>
              <a:ext cx="4903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68360" y="3933720"/>
            <a:ext cx="4966920" cy="2734200"/>
            <a:chOff x="468360" y="3933720"/>
            <a:chExt cx="4966920" cy="2734200"/>
          </a:xfrm>
        </p:grpSpPr>
        <p:pic>
          <p:nvPicPr>
            <p:cNvPr id="54" name="" descr=""/>
            <p:cNvPicPr/>
            <p:nvPr/>
          </p:nvPicPr>
          <p:blipFill>
            <a:blip r:embed="rId3"/>
            <a:srcRect l="8845" t="26015" r="29961" b="3035"/>
            <a:stretch/>
          </p:blipFill>
          <p:spPr>
            <a:xfrm>
              <a:off x="468360" y="3933720"/>
              <a:ext cx="4849920" cy="270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rot="20758200">
              <a:off x="2805840" y="5445000"/>
              <a:ext cx="875880" cy="349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21560" y="6111000"/>
              <a:ext cx="291240" cy="23436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39480" y="6503760"/>
              <a:ext cx="292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032720" y="5861520"/>
              <a:ext cx="1285560" cy="408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31800" y="6036480"/>
              <a:ext cx="21034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tificial isl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ea of measure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097800" y="6094440"/>
              <a:ext cx="232920" cy="1760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8:47:43Z</dcterms:created>
  <dc:creator>-</dc:creator>
  <dc:description/>
  <dc:language>en-US</dc:language>
  <cp:lastModifiedBy>-</cp:lastModifiedBy>
  <dcterms:modified xsi:type="dcterms:W3CDTF">2007-10-06T09:42:25Z</dcterms:modified>
  <cp:revision>6</cp:revision>
  <dc:subject/>
  <dc:title>Slide 1</dc:title>
</cp:coreProperties>
</file>