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6D39-8E46-491E-B369-094EAAE50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CB00-4C14-46BE-9276-66FDA346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9468-A9CC-48EE-AAF7-CD615A854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B4CB-56B6-42C5-B2F5-7EF665426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935D-EF00-45A3-9CE6-3417541A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3956-E634-4D09-9396-024CC271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914A-481E-4948-B3D1-B7DC0ECC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BF23-45BF-4CCC-9A9B-4D93CBDF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6E7D-F4DD-4C11-A640-C0306C78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3C24-652B-46F2-83A3-35F89F6B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C0E2-3F56-4B03-992C-70A0BE5C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4AEE-7472-4091-A51C-6906D36F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4DE9-1E25-4544-8CEA-7B2B5DAB9DE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533520"/>
            <a:ext cx="1244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 Unicode MS"/>
              </a:rPr>
              <a:t>Well, KM 125,3 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28600" y="1143000"/>
            <a:ext cx="5867280" cy="2685960"/>
            <a:chOff x="228600" y="1143000"/>
            <a:chExt cx="5867280" cy="2685960"/>
          </a:xfrm>
        </p:grpSpPr>
        <p:pic>
          <p:nvPicPr>
            <p:cNvPr id="43" name="Stam36" descr=""/>
            <p:cNvPicPr/>
            <p:nvPr/>
          </p:nvPicPr>
          <p:blipFill>
            <a:blip r:embed="rId1"/>
            <a:stretch/>
          </p:blipFill>
          <p:spPr>
            <a:xfrm>
              <a:off x="2666880" y="114300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Stam37" descr=""/>
            <p:cNvPicPr/>
            <p:nvPr/>
          </p:nvPicPr>
          <p:blipFill>
            <a:blip r:embed="rId2"/>
            <a:stretch/>
          </p:blipFill>
          <p:spPr>
            <a:xfrm>
              <a:off x="1295280" y="1257120"/>
              <a:ext cx="3352680" cy="25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Stam38" descr=""/>
            <p:cNvPicPr/>
            <p:nvPr/>
          </p:nvPicPr>
          <p:blipFill>
            <a:blip r:embed="rId3"/>
            <a:stretch/>
          </p:blipFill>
          <p:spPr>
            <a:xfrm>
              <a:off x="228600" y="1257120"/>
              <a:ext cx="3429000" cy="257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12:16:08Z</dcterms:created>
  <dc:creator>Dienst Weg- en Waterbouwkunde</dc:creator>
  <dc:description/>
  <dc:language>en-US</dc:language>
  <cp:lastModifiedBy>Rijkswaterstaat Directie Limb</cp:lastModifiedBy>
  <dcterms:modified xsi:type="dcterms:W3CDTF">2002-07-11T07:10:59Z</dcterms:modified>
  <cp:revision>4</cp:revision>
  <dc:subject/>
  <dc:title>PowerPoint-presentatie</dc:title>
</cp:coreProperties>
</file>