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773-D902-46DC-837C-4857201C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F12-FF0D-4E1A-BD08-5BFBC28B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BC5-D4FE-494B-A76D-8FEDAF98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B65-2668-4253-9B31-8F6FCDAA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F39-CB96-4A34-86B8-181FB764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DFD-03ED-4BFD-8BA5-EED1CBDA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145-E5F6-49DC-B861-73A1BD58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291-27B8-430A-BFBF-75330F1D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867-7100-46BE-9857-FB9D9135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F83-D959-40CC-946C-A317271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6FE-05E4-41B5-9C5C-FB3D42F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877-7951-4489-B1DC-A8D2BAD8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9B2-BD95-49BF-A909-33C3C81C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am39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1880" y="13208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Well, KM 124,7 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7:13:31Z</dcterms:created>
  <dc:creator>Rijkswaterstaat Directie Limb</dc:creator>
  <dc:description/>
  <dc:language>en-US</dc:language>
  <cp:lastModifiedBy>Rijkswaterstaat Directie Limb</cp:lastModifiedBy>
  <dcterms:modified xsi:type="dcterms:W3CDTF">2002-07-11T07:13:53Z</dcterms:modified>
  <cp:revision>1</cp:revision>
  <dc:subject/>
  <dc:title>PowerPoint-presentatie</dc:title>
</cp:coreProperties>
</file>