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73E-23CF-434E-84F4-5477F7D4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E4F-3FE0-43CA-A7FA-5373E254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58C-F2B8-4ECC-965B-D3247DA7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7BD-BFE8-496A-91BB-271A3D05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496-B4DE-4087-863A-E8544DB1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126-8DF0-43B5-9701-1866DE5B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921-4ECD-471C-A936-0AC2D848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928-5BA7-484B-B408-43DA732C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7AC-8C03-486C-AA1D-1495DBD7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F8F-DB0F-4493-957B-D430134C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E62-426E-4E45-B3C2-D8F1967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A10-AD30-432E-9505-AECB12C4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BC4F-6743-49E8-AAAA-42580619601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9440" y="533520"/>
            <a:ext cx="2266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Well, KM 125,8 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Luchtfotos van HW 1995 aanwezi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Beiden zijden kleine grind uitbouw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am29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43" name="Stam34" descr=""/>
          <p:cNvPicPr/>
          <p:nvPr/>
        </p:nvPicPr>
        <p:blipFill>
          <a:blip r:embed="rId2"/>
          <a:srcRect l="0" t="32522" r="17074" b="12195"/>
          <a:stretch/>
        </p:blipFill>
        <p:spPr>
          <a:xfrm>
            <a:off x="457200" y="4952880"/>
            <a:ext cx="3962520" cy="19814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85800" y="1447920"/>
            <a:ext cx="4267080" cy="1600200"/>
            <a:chOff x="685800" y="1447920"/>
            <a:chExt cx="4267080" cy="1600200"/>
          </a:xfrm>
        </p:grpSpPr>
        <p:pic>
          <p:nvPicPr>
            <p:cNvPr id="45" name="Stam32" descr=""/>
            <p:cNvPicPr/>
            <p:nvPr/>
          </p:nvPicPr>
          <p:blipFill>
            <a:blip r:embed="rId3"/>
            <a:stretch/>
          </p:blipFill>
          <p:spPr>
            <a:xfrm>
              <a:off x="2819520" y="1447920"/>
              <a:ext cx="21333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Stam30" descr=""/>
            <p:cNvPicPr/>
            <p:nvPr/>
          </p:nvPicPr>
          <p:blipFill>
            <a:blip r:embed="rId4"/>
            <a:stretch/>
          </p:blipFill>
          <p:spPr>
            <a:xfrm>
              <a:off x="685800" y="1447920"/>
              <a:ext cx="213372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12:16:08Z</dcterms:created>
  <dc:creator>Dienst Weg- en Waterbouwkunde</dc:creator>
  <dc:description/>
  <dc:language>en-US</dc:language>
  <cp:lastModifiedBy>Rijkswaterstaat Directie Limb</cp:lastModifiedBy>
  <dcterms:modified xsi:type="dcterms:W3CDTF">2002-07-11T07:07:24Z</dcterms:modified>
  <cp:revision>4</cp:revision>
  <dc:subject/>
  <dc:title>PowerPoint-presentatie</dc:title>
</cp:coreProperties>
</file>