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449C-62E1-475C-A1AD-501DE58F2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C8E9-EBDE-48FA-A7BF-728DB4F0C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C031-D6C1-48D4-84AE-34EF175FA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27C0-8B4A-4B98-8C1F-8CE97D2F6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A33D-1A18-4D4D-A339-C54D4F520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1326-5EEA-4EC2-8FAF-5B98C469B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16AF-D1F9-462F-9FEA-99FF1D90B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43E1-1DA3-4633-81F9-2B98E9DF8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5990-0F80-4A38-8D91-16816DF96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0CFD-895C-45E5-BC9C-6248C244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FF2F-5C64-430A-A114-6A4363D5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D0EE-0E45-4EEE-B583-F5E3D4CF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EB2B2-D8CC-41A9-BB8B-920EB1B4C7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7280" y="685800"/>
            <a:ext cx="160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 Unicode MS"/>
              </a:rPr>
              <a:t>St Andries, KM 212.6 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Stam42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2971800" cy="2229120"/>
          </a:xfrm>
          <a:prstGeom prst="rect">
            <a:avLst/>
          </a:prstGeom>
          <a:ln w="0">
            <a:noFill/>
          </a:ln>
        </p:spPr>
      </p:pic>
      <p:pic>
        <p:nvPicPr>
          <p:cNvPr id="43" name="Stam43" descr=""/>
          <p:cNvPicPr/>
          <p:nvPr/>
        </p:nvPicPr>
        <p:blipFill>
          <a:blip r:embed="rId2"/>
          <a:stretch/>
        </p:blipFill>
        <p:spPr>
          <a:xfrm>
            <a:off x="3657600" y="1295280"/>
            <a:ext cx="2971800" cy="2229120"/>
          </a:xfrm>
          <a:prstGeom prst="rect">
            <a:avLst/>
          </a:prstGeom>
          <a:ln w="0">
            <a:noFill/>
          </a:ln>
        </p:spPr>
      </p:pic>
      <p:pic>
        <p:nvPicPr>
          <p:cNvPr id="44" name="Stam40" descr=""/>
          <p:cNvPicPr/>
          <p:nvPr/>
        </p:nvPicPr>
        <p:blipFill>
          <a:blip r:embed="rId3"/>
          <a:stretch/>
        </p:blipFill>
        <p:spPr>
          <a:xfrm>
            <a:off x="609480" y="3733920"/>
            <a:ext cx="3810240" cy="2857320"/>
          </a:xfrm>
          <a:prstGeom prst="rect">
            <a:avLst/>
          </a:prstGeom>
          <a:ln w="0">
            <a:noFill/>
          </a:ln>
        </p:spPr>
      </p:pic>
      <p:pic>
        <p:nvPicPr>
          <p:cNvPr id="45" name="Stam41" descr=""/>
          <p:cNvPicPr/>
          <p:nvPr/>
        </p:nvPicPr>
        <p:blipFill>
          <a:blip r:embed="rId4"/>
          <a:stretch/>
        </p:blipFill>
        <p:spPr>
          <a:xfrm>
            <a:off x="4495680" y="3733920"/>
            <a:ext cx="2163960" cy="28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1T07:18:35Z</dcterms:created>
  <dc:creator>Rijkswaterstaat Directie Limb</dc:creator>
  <dc:description/>
  <dc:language>en-US</dc:language>
  <cp:lastModifiedBy>Rijkswaterstaat Directie Limb</cp:lastModifiedBy>
  <dcterms:modified xsi:type="dcterms:W3CDTF">2002-07-11T07:19:09Z</dcterms:modified>
  <cp:revision>1</cp:revision>
  <dc:subject/>
  <dc:title>PowerPoint-presentatie</dc:title>
</cp:coreProperties>
</file>