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1A5-828B-468C-8ECF-3679C56E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110-F469-44F7-9792-A02B3CF9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FB7-F7EF-44D6-9E89-22857C86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676F-9338-4809-B5CA-9C315C86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575-440C-4FB9-B3E8-E6A21BFE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59C-8943-4800-847D-F25290ED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BA0-CB11-46A6-9AA7-83A052A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81F-131E-4CD1-8857-DFE04F2F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73D-9BE5-4DC9-8B4B-82C55E96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F8F-6F1D-4DC7-B0F3-6124D252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E5D-44F2-4CA5-AAF1-00BEA4F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5B4-2EE2-43F0-9C63-4764772A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48FE-B69E-4BD4-B5AE-75D260826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457200"/>
            <a:ext cx="3429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tussen KM 212 en 218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Natuurvriendelijke oever 8 jaar na aanbrengen van vooroeververdedig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tegen golven en afrastering wil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44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503440" cy="187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3733920"/>
            <a:ext cx="342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tussen KM 212 en 218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Drinkpla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am46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3112920" cy="2335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723888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21:47Z</dcterms:created>
  <dc:creator>Rijkswaterstaat Directie Limb</dc:creator>
  <dc:description/>
  <dc:language>en-US</dc:language>
  <cp:lastModifiedBy>Rijkswaterstaat Directie Limb</cp:lastModifiedBy>
  <dcterms:modified xsi:type="dcterms:W3CDTF">2002-07-11T07:22:23Z</dcterms:modified>
  <cp:revision>1</cp:revision>
  <dc:subject/>
  <dc:title>PowerPoint-presentatie</dc:title>
</cp:coreProperties>
</file>