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9CC-7552-4AC3-9DD4-5A161FA4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168-A775-40A8-BA58-67F11E6C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033-6AF3-4DD3-9A49-C6DFD2BC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83A-3499-46FF-93CD-A3458BFA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7C3-AC13-4980-ACAC-EF02B19C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370-F30E-4AF7-A1AF-1B30D013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FF4-A115-443B-8EF0-C887DBD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B4B-6FD9-4CAA-9B29-710DE4CA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8722-E5BD-4C32-B5DF-A246506B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7E3-99EE-42D9-9DD9-9AB2782D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A9C-5522-446C-8578-7E05BAFF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542-1657-4ACF-A063-64B9EE2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FA6-6C66-4608-9496-BC610E327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7280" y="685800"/>
            <a:ext cx="160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St Andries, KM 212.6 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am4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43" name="Stam43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44" name="Stam40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45" name="Stam41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216396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7:18:35Z</dcterms:created>
  <dc:creator>Rijkswaterstaat Directie Limb</dc:creator>
  <dc:description/>
  <dc:language>en-US</dc:language>
  <cp:lastModifiedBy>Rijkswaterstaat Directie Limb</cp:lastModifiedBy>
  <dcterms:modified xsi:type="dcterms:W3CDTF">2002-07-11T07:19:09Z</dcterms:modified>
  <cp:revision>1</cp:revision>
  <dc:subject/>
  <dc:title>PowerPoint-presentatie</dc:title>
</cp:coreProperties>
</file>