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8AF-A564-40DE-8959-C6B8427C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72C-1F74-4694-9C1C-BEC30255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6E3-AE56-4DBC-88DC-4216C052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F21-41FD-4971-8EC3-9B7A50EE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679C-40EF-4A95-86CA-7215B550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589-A0C3-4502-B3A0-E33A7EB2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66C-4E31-4347-9DDC-FA518971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3A6-CB47-4662-B504-57DF6161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2B8C-7E56-4321-9127-384879AF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6FB7-0092-4BDE-99C7-701E1098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FFF-6F6F-4861-A14A-069A2473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902-8A4C-4512-A8B4-CE4C68D5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5108-680B-462A-85F0-CFB9641ED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3429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 Unicode MS"/>
              </a:rPr>
              <a:t>St Andries, tussen KM 212 en 218 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 Unicode MS"/>
              </a:rPr>
              <a:t>Natuurvriendelijke oever 8 jaar na aanbrengen van vooroeververdedig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 Unicode MS"/>
              </a:rPr>
              <a:t>tegen golven en afrastering wil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tam44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503440" cy="1877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3733920"/>
            <a:ext cx="3429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 Unicode MS"/>
              </a:rPr>
              <a:t>St Andries, tussen KM 212 en 218 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 Unicode MS"/>
              </a:rPr>
              <a:t>Drinkplaa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Stam46" descr=""/>
          <p:cNvPicPr/>
          <p:nvPr/>
        </p:nvPicPr>
        <p:blipFill>
          <a:blip r:embed="rId2"/>
          <a:stretch/>
        </p:blipFill>
        <p:spPr>
          <a:xfrm>
            <a:off x="762120" y="4343400"/>
            <a:ext cx="3112920" cy="2335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8080" y="723888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07:21:47Z</dcterms:created>
  <dc:creator>Rijkswaterstaat Directie Limb</dc:creator>
  <dc:description/>
  <dc:language>en-US</dc:language>
  <cp:lastModifiedBy>Rijkswaterstaat Directie Limb</cp:lastModifiedBy>
  <dcterms:modified xsi:type="dcterms:W3CDTF">2002-07-11T07:22:23Z</dcterms:modified>
  <cp:revision>1</cp:revision>
  <dc:subject/>
  <dc:title>PowerPoint-presentatie</dc:title>
</cp:coreProperties>
</file>