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2BA-FD21-46DF-8853-623C7E18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CB4-9ECF-4FFD-B9B4-F9062EAC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CED-EF3D-45CD-AFB3-CFCDED9A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BDE-EA8B-4023-8DDC-726A1DE0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EC8-E34B-4D4D-9FAE-E18D4363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1C6-A8F7-440D-96CB-CFF6332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FDF-6AA4-46FC-AE99-0E90AF10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51E-1CB2-4302-92A4-C56B3A8A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D7F-30F9-4AFB-A942-27E8A70D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FE4-BE49-4F75-9E66-8AF505B1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E4C-14F4-4542-92DE-B543DA41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E16-6BC7-45F9-BE90-7010C22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2ABC-C5F1-42CB-A1B4-F21191A372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9440" y="533520"/>
            <a:ext cx="2266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Well, KM 125,8 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Luchtfotos van HW 1995 aanwezi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Beiden zijden kleine grind uitbouw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am29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3" name="Stam34" descr=""/>
          <p:cNvPicPr/>
          <p:nvPr/>
        </p:nvPicPr>
        <p:blipFill>
          <a:blip r:embed="rId2"/>
          <a:srcRect l="0" t="32522" r="17074" b="12195"/>
          <a:stretch/>
        </p:blipFill>
        <p:spPr>
          <a:xfrm>
            <a:off x="457200" y="4952880"/>
            <a:ext cx="3962520" cy="19814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85800" y="1447920"/>
            <a:ext cx="4267080" cy="1600200"/>
            <a:chOff x="685800" y="1447920"/>
            <a:chExt cx="4267080" cy="1600200"/>
          </a:xfrm>
        </p:grpSpPr>
        <p:pic>
          <p:nvPicPr>
            <p:cNvPr id="45" name="Stam32" descr=""/>
            <p:cNvPicPr/>
            <p:nvPr/>
          </p:nvPicPr>
          <p:blipFill>
            <a:blip r:embed="rId3"/>
            <a:stretch/>
          </p:blipFill>
          <p:spPr>
            <a:xfrm>
              <a:off x="2819520" y="1447920"/>
              <a:ext cx="21333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Stam30" descr=""/>
            <p:cNvPicPr/>
            <p:nvPr/>
          </p:nvPicPr>
          <p:blipFill>
            <a:blip r:embed="rId4"/>
            <a:stretch/>
          </p:blipFill>
          <p:spPr>
            <a:xfrm>
              <a:off x="685800" y="1447920"/>
              <a:ext cx="213372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12:16:08Z</dcterms:created>
  <dc:creator>Dienst Weg- en Waterbouwkunde</dc:creator>
  <dc:description/>
  <dc:language>en-US</dc:language>
  <cp:lastModifiedBy>Rijkswaterstaat Directie Limb</cp:lastModifiedBy>
  <dcterms:modified xsi:type="dcterms:W3CDTF">2002-07-11T07:07:24Z</dcterms:modified>
  <cp:revision>4</cp:revision>
  <dc:subject/>
  <dc:title>PowerPoint-presentatie</dc:title>
</cp:coreProperties>
</file>