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C3F-F79B-4656-B573-2878A519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8FA-1B47-45E9-BE98-C4654BBA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F66-9D0C-4915-B7F1-8E5D179A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195-59F2-4958-B0DD-7FB3170C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900-B494-4AF6-871B-3C7E38F2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16A-F30F-4219-8670-6F13A6BC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3C0-6BFC-4B4D-8B12-C48B0F47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5C2-E61B-4EB1-8F2E-3DD53FCC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2D6-0FBA-418F-BD7E-769021E6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051-993B-44EF-BE05-6C99329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F70-583F-4E64-8D3A-AE466FE9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CA5-EB10-4EB8-84E5-6B18B6CF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77CC-ADCE-4952-831A-EBA06ED862B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533520"/>
            <a:ext cx="1244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Well, KM 125,3 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8600" y="1143000"/>
            <a:ext cx="5867280" cy="2685960"/>
            <a:chOff x="228600" y="1143000"/>
            <a:chExt cx="5867280" cy="2685960"/>
          </a:xfrm>
        </p:grpSpPr>
        <p:pic>
          <p:nvPicPr>
            <p:cNvPr id="43" name="Stam36" descr=""/>
            <p:cNvPicPr/>
            <p:nvPr/>
          </p:nvPicPr>
          <p:blipFill>
            <a:blip r:embed="rId1"/>
            <a:stretch/>
          </p:blipFill>
          <p:spPr>
            <a:xfrm>
              <a:off x="2666880" y="114300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Stam37" descr=""/>
            <p:cNvPicPr/>
            <p:nvPr/>
          </p:nvPicPr>
          <p:blipFill>
            <a:blip r:embed="rId2"/>
            <a:stretch/>
          </p:blipFill>
          <p:spPr>
            <a:xfrm>
              <a:off x="1295280" y="1257120"/>
              <a:ext cx="335268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Stam38" descr=""/>
            <p:cNvPicPr/>
            <p:nvPr/>
          </p:nvPicPr>
          <p:blipFill>
            <a:blip r:embed="rId3"/>
            <a:stretch/>
          </p:blipFill>
          <p:spPr>
            <a:xfrm>
              <a:off x="228600" y="1257120"/>
              <a:ext cx="3429000" cy="25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12:16:08Z</dcterms:created>
  <dc:creator>Dienst Weg- en Waterbouwkunde</dc:creator>
  <dc:description/>
  <dc:language>en-US</dc:language>
  <cp:lastModifiedBy>Rijkswaterstaat Directie Limb</cp:lastModifiedBy>
  <dcterms:modified xsi:type="dcterms:W3CDTF">2002-07-11T07:10:59Z</dcterms:modified>
  <cp:revision>4</cp:revision>
  <dc:subject/>
  <dc:title>PowerPoint-presentatie</dc:title>
</cp:coreProperties>
</file>