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FF0-BD04-463B-83A0-C1759D04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875F-F466-4FDC-8AFF-1374861D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90FF-EF26-4163-9470-6166F6D1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6DF-62BA-4B9A-A7E5-F541E615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B62-4140-4AEF-963D-F06C4120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791-88C5-477D-A37F-35E4C4D5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0E4-C39A-41FF-8402-D5FD0626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407-2DE6-4FD8-9D36-6873C465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6B3-C3AD-4C74-9C57-7F30871A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71D-F76B-4D2E-B689-F6E01DD9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CF7-4FDD-48F3-AD3B-7E90621B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A9E-3D88-4532-AD90-323160A1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80AB-4930-48EF-8C0D-5F0F8E96F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tam39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5486400" cy="426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1880" y="1320840"/>
            <a:ext cx="12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 Unicode MS"/>
              </a:rPr>
              <a:t>Well, KM 124,7 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7:13:31Z</dcterms:created>
  <dc:creator>Rijkswaterstaat Directie Limb</dc:creator>
  <dc:description/>
  <dc:language>en-US</dc:language>
  <cp:lastModifiedBy>Rijkswaterstaat Directie Limb</cp:lastModifiedBy>
  <dcterms:modified xsi:type="dcterms:W3CDTF">2002-07-11T07:13:53Z</dcterms:modified>
  <cp:revision>1</cp:revision>
  <dc:subject/>
  <dc:title>PowerPoint-presentatie</dc:title>
</cp:coreProperties>
</file>