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BC30-11F5-4A60-8928-B3651951C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C501-6127-43A5-B351-FC0FF69E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1176-2D49-4975-BD64-191C768C9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884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5000" y="198108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30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884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5000" y="4130640"/>
            <a:ext cx="2710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D3F53-C99F-4E80-A06E-3723B738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B4FE-7973-4431-AAE0-B8E79A24F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A74C-C5AF-4440-AC6D-ECED31AE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4530-4C5E-428A-87CD-2AF535A4A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BDC9-668E-46D8-97AB-D20F6E18F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3040" y="609120"/>
            <a:ext cx="841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666-6032-4F88-B00F-A7CFD287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1C91-D2D8-4963-96EA-0EDECB3C3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6200" y="413064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B281D-AEE5-4BD0-9A5E-F32E08ED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304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6200" y="1981080"/>
            <a:ext cx="4107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3040" y="4130640"/>
            <a:ext cx="8416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9C17-BBE1-4877-832D-B5190AA3A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3040" y="609120"/>
            <a:ext cx="841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3040" y="1981080"/>
            <a:ext cx="841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2920" y="6248520"/>
            <a:ext cx="3137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7760" y="6248520"/>
            <a:ext cx="206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2B45-691E-4758-94DB-C58ACF1A66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4440" y="7819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39800" y="1980000"/>
            <a:ext cx="6582240" cy="2103480"/>
            <a:chOff x="1639800" y="1980000"/>
            <a:chExt cx="6582240" cy="2103480"/>
          </a:xfrm>
        </p:grpSpPr>
        <p:grpSp>
          <p:nvGrpSpPr>
            <p:cNvPr id="43" name=""/>
            <p:cNvGrpSpPr/>
            <p:nvPr/>
          </p:nvGrpSpPr>
          <p:grpSpPr>
            <a:xfrm>
              <a:off x="1639800" y="2359080"/>
              <a:ext cx="1783440" cy="1724400"/>
              <a:chOff x="1639800" y="2359080"/>
              <a:chExt cx="1783440" cy="1724400"/>
            </a:xfrm>
          </p:grpSpPr>
          <p:grpSp>
            <p:nvGrpSpPr>
              <p:cNvPr id="44" name=""/>
              <p:cNvGrpSpPr/>
              <p:nvPr/>
            </p:nvGrpSpPr>
            <p:grpSpPr>
              <a:xfrm>
                <a:off x="1684440" y="2359080"/>
                <a:ext cx="1738800" cy="1724400"/>
                <a:chOff x="1684440" y="2359080"/>
                <a:chExt cx="1738800" cy="172440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1684440" y="3219840"/>
                  <a:ext cx="86904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2553480" y="3219840"/>
                  <a:ext cx="869760" cy="8636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1684440" y="2359080"/>
                  <a:ext cx="86904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2553480" y="2359080"/>
                  <a:ext cx="869760" cy="860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" name=""/>
              <p:cNvSpPr/>
              <p:nvPr/>
            </p:nvSpPr>
            <p:spPr>
              <a:xfrm flipV="1">
                <a:off x="2081160" y="2806920"/>
                <a:ext cx="891720" cy="864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2090520" y="2766600"/>
                <a:ext cx="943560" cy="914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639800" y="37670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639800" y="2375640"/>
                <a:ext cx="646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3943440" y="1980000"/>
              <a:ext cx="1865880" cy="2084400"/>
              <a:chOff x="3943440" y="1980000"/>
              <a:chExt cx="1865880" cy="2084400"/>
            </a:xfrm>
          </p:grpSpPr>
          <p:grpSp>
            <p:nvGrpSpPr>
              <p:cNvPr id="54" name=""/>
              <p:cNvGrpSpPr/>
              <p:nvPr/>
            </p:nvGrpSpPr>
            <p:grpSpPr>
              <a:xfrm>
                <a:off x="4071960" y="2340000"/>
                <a:ext cx="1737360" cy="1724400"/>
                <a:chOff x="4071960" y="2340000"/>
                <a:chExt cx="1737360" cy="1724400"/>
              </a:xfrm>
            </p:grpSpPr>
            <p:grpSp>
              <p:nvGrpSpPr>
                <p:cNvPr id="55" name=""/>
                <p:cNvGrpSpPr/>
                <p:nvPr/>
              </p:nvGrpSpPr>
              <p:grpSpPr>
                <a:xfrm>
                  <a:off x="4071960" y="2340000"/>
                  <a:ext cx="1737360" cy="1724400"/>
                  <a:chOff x="4071960" y="2340000"/>
                  <a:chExt cx="1737360" cy="172440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4071960" y="3200760"/>
                    <a:ext cx="86832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4940280" y="3200760"/>
                    <a:ext cx="869040" cy="8636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4071960" y="2340000"/>
                    <a:ext cx="86832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>
                    <a:off x="4940280" y="2340000"/>
                    <a:ext cx="869040" cy="86076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60" name=""/>
                <p:cNvSpPr/>
                <p:nvPr/>
              </p:nvSpPr>
              <p:spPr>
                <a:xfrm>
                  <a:off x="4466880" y="3652920"/>
                  <a:ext cx="733320" cy="126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4478040" y="2747520"/>
                  <a:ext cx="941760" cy="914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2" name=""/>
              <p:cNvSpPr/>
              <p:nvPr/>
            </p:nvSpPr>
            <p:spPr>
              <a:xfrm>
                <a:off x="394344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6381720" y="1980000"/>
              <a:ext cx="1840320" cy="2086200"/>
              <a:chOff x="6381720" y="1980000"/>
              <a:chExt cx="1840320" cy="2086200"/>
            </a:xfrm>
          </p:grpSpPr>
          <p:grpSp>
            <p:nvGrpSpPr>
              <p:cNvPr id="64" name=""/>
              <p:cNvGrpSpPr/>
              <p:nvPr/>
            </p:nvGrpSpPr>
            <p:grpSpPr>
              <a:xfrm>
                <a:off x="6459480" y="2314440"/>
                <a:ext cx="1762560" cy="1751760"/>
                <a:chOff x="6459480" y="2314440"/>
                <a:chExt cx="1762560" cy="1751760"/>
              </a:xfrm>
            </p:grpSpPr>
            <p:grpSp>
              <p:nvGrpSpPr>
                <p:cNvPr id="65" name=""/>
                <p:cNvGrpSpPr/>
                <p:nvPr/>
              </p:nvGrpSpPr>
              <p:grpSpPr>
                <a:xfrm>
                  <a:off x="6459480" y="2314440"/>
                  <a:ext cx="1762560" cy="1751760"/>
                  <a:chOff x="6459480" y="2314440"/>
                  <a:chExt cx="1762560" cy="175176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>
                    <a:off x="6459480" y="3188880"/>
                    <a:ext cx="88092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>
                    <a:off x="7340400" y="3188880"/>
                    <a:ext cx="881640" cy="8773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>
                    <a:off x="6459480" y="2314440"/>
                    <a:ext cx="88092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" name=""/>
                  <p:cNvSpPr/>
                  <p:nvPr/>
                </p:nvSpPr>
                <p:spPr>
                  <a:xfrm>
                    <a:off x="7340400" y="2314440"/>
                    <a:ext cx="881640" cy="8744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0" name=""/>
                <p:cNvSpPr/>
                <p:nvPr/>
              </p:nvSpPr>
              <p:spPr>
                <a:xfrm flipV="1">
                  <a:off x="6860520" y="2768760"/>
                  <a:ext cx="905040" cy="8787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flipV="1">
                  <a:off x="6870240" y="2720520"/>
                  <a:ext cx="745920" cy="6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2" name=""/>
              <p:cNvSpPr/>
              <p:nvPr/>
            </p:nvSpPr>
            <p:spPr>
              <a:xfrm>
                <a:off x="6381720" y="1980000"/>
                <a:ext cx="1428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400" spc="-1" strike="noStrike">
                    <a:solidFill>
                      <a:srgbClr val="000000"/>
                    </a:solidFill>
                    <a:latin typeface="Times New Roman"/>
                  </a:rPr>
                  <a:t>Correction error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1324080" y="1701720"/>
            <a:ext cx="1939320" cy="1962360"/>
            <a:chOff x="1324080" y="1701720"/>
            <a:chExt cx="1939320" cy="1962360"/>
          </a:xfrm>
        </p:grpSpPr>
        <p:grpSp>
          <p:nvGrpSpPr>
            <p:cNvPr id="74" name=""/>
            <p:cNvGrpSpPr/>
            <p:nvPr/>
          </p:nvGrpSpPr>
          <p:grpSpPr>
            <a:xfrm>
              <a:off x="1324080" y="1701720"/>
              <a:ext cx="1939320" cy="1962360"/>
              <a:chOff x="1324080" y="1701720"/>
              <a:chExt cx="1939320" cy="1962360"/>
            </a:xfrm>
          </p:grpSpPr>
          <p:grpSp>
            <p:nvGrpSpPr>
              <p:cNvPr id="75" name=""/>
              <p:cNvGrpSpPr/>
              <p:nvPr/>
            </p:nvGrpSpPr>
            <p:grpSpPr>
              <a:xfrm>
                <a:off x="1324080" y="2487240"/>
                <a:ext cx="1939320" cy="392760"/>
                <a:chOff x="1324080" y="2487240"/>
                <a:chExt cx="1939320" cy="39276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13240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171180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09988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248796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287568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1324080" y="2094480"/>
                <a:ext cx="1939320" cy="392760"/>
                <a:chOff x="1324080" y="2094480"/>
                <a:chExt cx="1939320" cy="39276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13240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171180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0998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248796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2875680" y="209448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1324080" y="3271320"/>
                <a:ext cx="1939320" cy="392760"/>
                <a:chOff x="1324080" y="3271320"/>
                <a:chExt cx="1939320" cy="39276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13240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171180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209988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248796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287568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1324080" y="1701720"/>
                <a:ext cx="1939320" cy="392760"/>
                <a:chOff x="1324080" y="1701720"/>
                <a:chExt cx="1939320" cy="39276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132408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171180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20998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248796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2875680" y="17017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1324080" y="2878560"/>
                <a:ext cx="1939320" cy="392760"/>
                <a:chOff x="1324080" y="2878560"/>
                <a:chExt cx="1939320" cy="3927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13240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171180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20998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24879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87568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05" name=""/>
            <p:cNvGrpSpPr/>
            <p:nvPr/>
          </p:nvGrpSpPr>
          <p:grpSpPr>
            <a:xfrm>
              <a:off x="1514160" y="1704240"/>
              <a:ext cx="1746360" cy="1778760"/>
              <a:chOff x="1514160" y="1704240"/>
              <a:chExt cx="1746360" cy="1778760"/>
            </a:xfrm>
          </p:grpSpPr>
          <p:sp>
            <p:nvSpPr>
              <p:cNvPr id="106" name=""/>
              <p:cNvSpPr/>
              <p:nvPr/>
            </p:nvSpPr>
            <p:spPr>
              <a:xfrm flipH="1" flipV="1">
                <a:off x="23047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flipV="1">
                <a:off x="2687400" y="22856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V="1">
                <a:off x="2687400" y="18939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2687400" y="30686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flipV="1">
                <a:off x="2292120" y="2692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flipV="1">
                <a:off x="19040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2302200" y="189936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229212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1901880" y="2687760"/>
                <a:ext cx="38052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1906920" y="229140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 flipV="1">
                <a:off x="151416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8968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V="1">
                <a:off x="1516680" y="2687760"/>
                <a:ext cx="3801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V="1">
                <a:off x="1516680" y="229608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V="1">
                <a:off x="1516680" y="1905120"/>
                <a:ext cx="380160" cy="3909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1516680" y="30787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 flipV="1">
                <a:off x="2699640" y="308664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>
                <a:off x="2282400" y="1704240"/>
                <a:ext cx="20700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>
                <a:off x="3053160" y="2492280"/>
                <a:ext cx="207360" cy="21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25" name=""/>
          <p:cNvGrpSpPr/>
          <p:nvPr/>
        </p:nvGrpSpPr>
        <p:grpSpPr>
          <a:xfrm>
            <a:off x="3995640" y="1701720"/>
            <a:ext cx="1938600" cy="1962000"/>
            <a:chOff x="3995640" y="1701720"/>
            <a:chExt cx="1938600" cy="1962000"/>
          </a:xfrm>
        </p:grpSpPr>
        <p:grpSp>
          <p:nvGrpSpPr>
            <p:cNvPr id="126" name=""/>
            <p:cNvGrpSpPr/>
            <p:nvPr/>
          </p:nvGrpSpPr>
          <p:grpSpPr>
            <a:xfrm>
              <a:off x="3995640" y="1701720"/>
              <a:ext cx="1938600" cy="1962000"/>
              <a:chOff x="3995640" y="1701720"/>
              <a:chExt cx="1938600" cy="1962000"/>
            </a:xfrm>
          </p:grpSpPr>
          <p:grpSp>
            <p:nvGrpSpPr>
              <p:cNvPr id="127" name=""/>
              <p:cNvGrpSpPr/>
              <p:nvPr/>
            </p:nvGrpSpPr>
            <p:grpSpPr>
              <a:xfrm>
                <a:off x="3995640" y="2487240"/>
                <a:ext cx="1938600" cy="392040"/>
                <a:chOff x="3995640" y="2487240"/>
                <a:chExt cx="1938600" cy="3920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99564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438300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477108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5158800" y="2487240"/>
                  <a:ext cx="38736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5546520" y="2487240"/>
                  <a:ext cx="387720" cy="3920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3995640" y="2094120"/>
                <a:ext cx="1938600" cy="392400"/>
                <a:chOff x="3995640" y="2094120"/>
                <a:chExt cx="1938600" cy="39240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399564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438300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7108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5158800" y="20941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5546520" y="20941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9" name=""/>
              <p:cNvGrpSpPr/>
              <p:nvPr/>
            </p:nvGrpSpPr>
            <p:grpSpPr>
              <a:xfrm>
                <a:off x="3995640" y="3271320"/>
                <a:ext cx="1938600" cy="392400"/>
                <a:chOff x="3995640" y="3271320"/>
                <a:chExt cx="1938600" cy="3924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399564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38300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77108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158800" y="32713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546520" y="32713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3995640" y="1701720"/>
                <a:ext cx="1938600" cy="392400"/>
                <a:chOff x="3995640" y="1701720"/>
                <a:chExt cx="1938600" cy="3924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99564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00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477108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158800" y="17017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46520" y="17017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3995640" y="2878920"/>
                <a:ext cx="1938600" cy="392400"/>
                <a:chOff x="3995640" y="2878920"/>
                <a:chExt cx="1938600" cy="3924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99564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438300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477108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5158800" y="2878920"/>
                  <a:ext cx="38736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5546520" y="2878920"/>
                  <a:ext cx="387720" cy="392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4185720" y="1878480"/>
              <a:ext cx="1572840" cy="1610280"/>
              <a:chOff x="4185720" y="1878480"/>
              <a:chExt cx="1572840" cy="1610280"/>
            </a:xfrm>
          </p:grpSpPr>
          <p:sp>
            <p:nvSpPr>
              <p:cNvPr id="158" name=""/>
              <p:cNvSpPr/>
              <p:nvPr/>
            </p:nvSpPr>
            <p:spPr>
              <a:xfrm flipH="1">
                <a:off x="4982760" y="189360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960440" y="22831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570920" y="18864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975560" y="269028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5368320" y="22802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>
                <a:off x="5378400" y="1883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5353560" y="3079080"/>
                <a:ext cx="38052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V="1">
                <a:off x="4963320" y="26978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 flipV="1">
                <a:off x="4575240" y="2288520"/>
                <a:ext cx="37548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496332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4573080" y="2692440"/>
                <a:ext cx="38052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4578120" y="22960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 flipV="1">
                <a:off x="4185720" y="189180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4568400" y="30895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4188240" y="269244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4188240" y="2301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4188240" y="19094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4188240" y="3084120"/>
                <a:ext cx="3801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 flipV="1">
                <a:off x="5370480" y="3092040"/>
                <a:ext cx="375480" cy="39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 flipV="1">
                <a:off x="5361120" y="2684880"/>
                <a:ext cx="375120" cy="39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5375880" y="267696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4985640" y="228024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4610520" y="1878480"/>
                <a:ext cx="380160" cy="3913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1" name=""/>
          <p:cNvGrpSpPr/>
          <p:nvPr/>
        </p:nvGrpSpPr>
        <p:grpSpPr>
          <a:xfrm>
            <a:off x="6665760" y="1701720"/>
            <a:ext cx="1940040" cy="1962360"/>
            <a:chOff x="6665760" y="1701720"/>
            <a:chExt cx="1940040" cy="1962360"/>
          </a:xfrm>
        </p:grpSpPr>
        <p:grpSp>
          <p:nvGrpSpPr>
            <p:cNvPr id="182" name=""/>
            <p:cNvGrpSpPr/>
            <p:nvPr/>
          </p:nvGrpSpPr>
          <p:grpSpPr>
            <a:xfrm>
              <a:off x="6665760" y="1701720"/>
              <a:ext cx="1940040" cy="1962360"/>
              <a:chOff x="6665760" y="1701720"/>
              <a:chExt cx="1940040" cy="196236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665760" y="2487240"/>
                <a:ext cx="1940040" cy="392760"/>
                <a:chOff x="6665760" y="2487240"/>
                <a:chExt cx="1940040" cy="3927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665760" y="248724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705348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7441560" y="248724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7829640" y="248724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8217720" y="248724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6665760" y="2094480"/>
                <a:ext cx="1940040" cy="392760"/>
                <a:chOff x="6665760" y="2094480"/>
                <a:chExt cx="1940040" cy="39276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666576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705348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7441560" y="209448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7829640" y="209448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8217720" y="209448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6665760" y="3271320"/>
                <a:ext cx="1940040" cy="392760"/>
                <a:chOff x="6665760" y="3271320"/>
                <a:chExt cx="1940040" cy="39276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6665760" y="32713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05348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44156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7829640" y="327132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8217720" y="327132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6665760" y="1701720"/>
                <a:ext cx="1940040" cy="392760"/>
                <a:chOff x="6665760" y="1701720"/>
                <a:chExt cx="1940040" cy="3927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66576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705348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744156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7829640" y="170172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17720" y="170172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6665760" y="2878560"/>
                <a:ext cx="1940040" cy="392760"/>
                <a:chOff x="6665760" y="2878560"/>
                <a:chExt cx="1940040" cy="3927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6665760" y="2878560"/>
                  <a:ext cx="38772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053480" y="2878560"/>
                  <a:ext cx="388080" cy="392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44156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829640" y="2878560"/>
                  <a:ext cx="38772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17720" y="2878560"/>
                  <a:ext cx="388080" cy="392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3320" y="1848600"/>
              <a:ext cx="1581120" cy="1653120"/>
              <a:chOff x="6853320" y="1848600"/>
              <a:chExt cx="1581120" cy="1653120"/>
            </a:xfrm>
          </p:grpSpPr>
          <p:sp>
            <p:nvSpPr>
              <p:cNvPr id="214" name=""/>
              <p:cNvSpPr/>
              <p:nvPr/>
            </p:nvSpPr>
            <p:spPr>
              <a:xfrm flipV="1">
                <a:off x="6853320" y="308448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7253640" y="26769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V="1">
                <a:off x="765360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V="1">
                <a:off x="8049240" y="1874160"/>
                <a:ext cx="38520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V="1">
                <a:off x="6863040" y="268236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V="1">
                <a:off x="7263360" y="227592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V="1">
                <a:off x="7658640" y="187884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V="1">
                <a:off x="6892560" y="226044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V="1">
                <a:off x="7293240" y="1852920"/>
                <a:ext cx="385560" cy="39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V="1">
                <a:off x="6917400" y="1848600"/>
                <a:ext cx="385560" cy="39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643520" y="307368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H="1" flipV="1">
                <a:off x="8024040" y="26618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7643520" y="268272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 flipV="1">
                <a:off x="8048880" y="2291040"/>
                <a:ext cx="375480" cy="40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flipH="1" flipV="1">
                <a:off x="7223400" y="307908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H="1" flipV="1">
                <a:off x="8043840" y="3099960"/>
                <a:ext cx="375480" cy="40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 flipV="1">
                <a:off x="6877440" y="3073680"/>
                <a:ext cx="375480" cy="4014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 flipV="1">
                <a:off x="7253280" y="267228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8034120" y="188964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 flipV="1">
                <a:off x="7643520" y="2280960"/>
                <a:ext cx="375480" cy="4017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4" name=""/>
          <p:cNvGrpSpPr/>
          <p:nvPr/>
        </p:nvGrpSpPr>
        <p:grpSpPr>
          <a:xfrm>
            <a:off x="1324080" y="4392720"/>
            <a:ext cx="1960200" cy="1891800"/>
            <a:chOff x="1324080" y="4392720"/>
            <a:chExt cx="1960200" cy="1891800"/>
          </a:xfrm>
        </p:grpSpPr>
        <p:grpSp>
          <p:nvGrpSpPr>
            <p:cNvPr id="235" name=""/>
            <p:cNvGrpSpPr/>
            <p:nvPr/>
          </p:nvGrpSpPr>
          <p:grpSpPr>
            <a:xfrm>
              <a:off x="1324080" y="4392720"/>
              <a:ext cx="1958040" cy="1891800"/>
              <a:chOff x="1324080" y="4392720"/>
              <a:chExt cx="1958040" cy="1891800"/>
            </a:xfrm>
          </p:grpSpPr>
          <p:grpSp>
            <p:nvGrpSpPr>
              <p:cNvPr id="236" name=""/>
              <p:cNvGrpSpPr/>
              <p:nvPr/>
            </p:nvGrpSpPr>
            <p:grpSpPr>
              <a:xfrm>
                <a:off x="1324080" y="5146920"/>
                <a:ext cx="1958040" cy="376920"/>
                <a:chOff x="1324080" y="5146920"/>
                <a:chExt cx="1958040" cy="37692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132408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71540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2107080" y="514692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2498760" y="51469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2890440" y="51469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1324080" y="4769640"/>
                <a:ext cx="1958040" cy="376920"/>
                <a:chOff x="1324080" y="4769640"/>
                <a:chExt cx="1958040" cy="37692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132408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1715400" y="476964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210708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2498760" y="476964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2890440" y="476964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1324080" y="5907600"/>
                <a:ext cx="1958040" cy="376920"/>
                <a:chOff x="1324080" y="5907600"/>
                <a:chExt cx="1958040" cy="37692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132408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171540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2107080" y="590760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2498760" y="590760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2890440" y="5907600"/>
                  <a:ext cx="39168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1324080" y="4392720"/>
                <a:ext cx="1958040" cy="376920"/>
                <a:chOff x="1324080" y="4392720"/>
                <a:chExt cx="1958040" cy="37692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1324080" y="43927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71540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210708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2498760" y="43927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890440" y="43927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324080" y="5530320"/>
                <a:ext cx="1958040" cy="376920"/>
                <a:chOff x="1324080" y="5530320"/>
                <a:chExt cx="1958040" cy="37692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24080" y="5530320"/>
                  <a:ext cx="39132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71540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210708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2498760" y="5530320"/>
                  <a:ext cx="391320" cy="376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2890440" y="5530320"/>
                  <a:ext cx="391680" cy="376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6" name=""/>
            <p:cNvGrpSpPr/>
            <p:nvPr/>
          </p:nvGrpSpPr>
          <p:grpSpPr>
            <a:xfrm>
              <a:off x="1515960" y="4394880"/>
              <a:ext cx="1768320" cy="1711080"/>
              <a:chOff x="1515960" y="4394880"/>
              <a:chExt cx="1768320" cy="1711080"/>
            </a:xfrm>
          </p:grpSpPr>
          <p:sp>
            <p:nvSpPr>
              <p:cNvPr id="267" name=""/>
              <p:cNvSpPr/>
              <p:nvPr/>
            </p:nvSpPr>
            <p:spPr>
              <a:xfrm flipH="1" flipV="1">
                <a:off x="2313720" y="53370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2700360" y="49539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2700360" y="457776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 flipV="1">
                <a:off x="1909440" y="4951440"/>
                <a:ext cx="37908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V="1">
                <a:off x="2311200" y="45828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230148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1907280" y="5339880"/>
                <a:ext cx="38412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 flipV="1">
                <a:off x="1515960" y="457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1902240" y="572076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1518480" y="53398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1518480" y="495864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V="1">
                <a:off x="1518480" y="46076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flipV="1">
                <a:off x="1518480" y="571572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 flipV="1">
                <a:off x="2712600" y="5722920"/>
                <a:ext cx="37908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V="1">
                <a:off x="2291400" y="4394880"/>
                <a:ext cx="20916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3069360" y="515160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1897200" y="439488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3074760" y="5522760"/>
                <a:ext cx="209520" cy="20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flipV="1">
                <a:off x="2695320" y="574992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flipV="1">
                <a:off x="2301480" y="535428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1907280" y="4978440"/>
                <a:ext cx="0" cy="35604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8" name=""/>
          <p:cNvGrpSpPr/>
          <p:nvPr/>
        </p:nvGrpSpPr>
        <p:grpSpPr>
          <a:xfrm>
            <a:off x="3989520" y="4405320"/>
            <a:ext cx="1956960" cy="1898640"/>
            <a:chOff x="3989520" y="4405320"/>
            <a:chExt cx="1956960" cy="1898640"/>
          </a:xfrm>
        </p:grpSpPr>
        <p:grpSp>
          <p:nvGrpSpPr>
            <p:cNvPr id="289" name=""/>
            <p:cNvGrpSpPr/>
            <p:nvPr/>
          </p:nvGrpSpPr>
          <p:grpSpPr>
            <a:xfrm>
              <a:off x="3989520" y="4405320"/>
              <a:ext cx="1956960" cy="1898640"/>
              <a:chOff x="3989520" y="4405320"/>
              <a:chExt cx="1956960" cy="1898640"/>
            </a:xfrm>
          </p:grpSpPr>
          <p:grpSp>
            <p:nvGrpSpPr>
              <p:cNvPr id="290" name=""/>
              <p:cNvGrpSpPr/>
              <p:nvPr/>
            </p:nvGrpSpPr>
            <p:grpSpPr>
              <a:xfrm>
                <a:off x="3989520" y="5159520"/>
                <a:ext cx="1956960" cy="376200"/>
                <a:chOff x="3989520" y="5159520"/>
                <a:chExt cx="1956960" cy="37620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98952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380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4772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16384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555160" y="51595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3989520" y="4781520"/>
                <a:ext cx="1956960" cy="378000"/>
                <a:chOff x="3989520" y="4781520"/>
                <a:chExt cx="1956960" cy="37800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398952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4380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772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516384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555160" y="47815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3989520" y="5927760"/>
                <a:ext cx="1956960" cy="376200"/>
                <a:chOff x="3989520" y="5927760"/>
                <a:chExt cx="1956960" cy="37620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398952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380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4772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516384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555160" y="592776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989520" y="4405320"/>
                <a:ext cx="1956960" cy="376200"/>
                <a:chOff x="3989520" y="4405320"/>
                <a:chExt cx="1956960" cy="37620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98952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4380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772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516384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555160" y="44053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3989520" y="5549760"/>
                <a:ext cx="1956960" cy="378000"/>
                <a:chOff x="3989520" y="5549760"/>
                <a:chExt cx="1956960" cy="37800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398952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4380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772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516384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5555160" y="554976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20" name=""/>
            <p:cNvGrpSpPr/>
            <p:nvPr/>
          </p:nvGrpSpPr>
          <p:grpSpPr>
            <a:xfrm>
              <a:off x="4181400" y="4582440"/>
              <a:ext cx="1582560" cy="1538280"/>
              <a:chOff x="4181400" y="4582440"/>
              <a:chExt cx="1582560" cy="1538280"/>
            </a:xfrm>
          </p:grpSpPr>
          <p:sp>
            <p:nvSpPr>
              <p:cNvPr id="321" name=""/>
              <p:cNvSpPr/>
              <p:nvPr/>
            </p:nvSpPr>
            <p:spPr>
              <a:xfrm flipH="1">
                <a:off x="49914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 flipV="1">
                <a:off x="4964040" y="4963680"/>
                <a:ext cx="378720" cy="380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 flipV="1">
                <a:off x="4570200" y="45828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 flipV="1">
                <a:off x="4978800" y="535428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H="1">
                <a:off x="5380200" y="49564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flipH="1">
                <a:off x="5380200" y="458568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 flipV="1">
                <a:off x="4574880" y="496836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V="1">
                <a:off x="496656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V="1">
                <a:off x="4572360" y="5356800"/>
                <a:ext cx="38412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 flipV="1">
                <a:off x="4181400" y="45878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 flipV="1">
                <a:off x="4567680" y="573768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4183920" y="5356800"/>
                <a:ext cx="383760" cy="37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flipV="1">
                <a:off x="4183920" y="498132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H="1" flipV="1">
                <a:off x="4188240" y="4609800"/>
                <a:ext cx="2520" cy="38556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flipV="1">
                <a:off x="4183920" y="5733000"/>
                <a:ext cx="383760" cy="37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flipH="1" flipV="1">
                <a:off x="5377680" y="574020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 flipV="1">
                <a:off x="5367960" y="5349240"/>
                <a:ext cx="378720" cy="380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4619520" y="4582440"/>
                <a:ext cx="36396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 flipV="1">
                <a:off x="4577040" y="4996080"/>
                <a:ext cx="2520" cy="3780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H="1">
                <a:off x="5013720" y="496800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 flipV="1">
                <a:off x="4966200" y="5366880"/>
                <a:ext cx="252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97840" y="5339160"/>
                <a:ext cx="356400" cy="252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>
                <a:off x="5360400" y="5738040"/>
                <a:ext cx="5040" cy="370800"/>
              </a:xfrm>
              <a:prstGeom prst="line">
                <a:avLst/>
              </a:prstGeom>
              <a:ln w="12600">
                <a:solidFill>
                  <a:srgbClr val="ff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6647040" y="4390920"/>
            <a:ext cx="1958400" cy="1893960"/>
            <a:chOff x="6647040" y="4390920"/>
            <a:chExt cx="1958400" cy="1893960"/>
          </a:xfrm>
        </p:grpSpPr>
        <p:grpSp>
          <p:nvGrpSpPr>
            <p:cNvPr id="345" name=""/>
            <p:cNvGrpSpPr/>
            <p:nvPr/>
          </p:nvGrpSpPr>
          <p:grpSpPr>
            <a:xfrm>
              <a:off x="6647040" y="4390920"/>
              <a:ext cx="1958400" cy="1893960"/>
              <a:chOff x="6647040" y="4390920"/>
              <a:chExt cx="1958400" cy="1893960"/>
            </a:xfrm>
          </p:grpSpPr>
          <p:grpSp>
            <p:nvGrpSpPr>
              <p:cNvPr id="346" name=""/>
              <p:cNvGrpSpPr/>
              <p:nvPr/>
            </p:nvGrpSpPr>
            <p:grpSpPr>
              <a:xfrm>
                <a:off x="6647040" y="5145480"/>
                <a:ext cx="1958400" cy="378000"/>
                <a:chOff x="6647040" y="5145480"/>
                <a:chExt cx="1958400" cy="3780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6647040" y="51454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03836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430400" y="514548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822080" y="51454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8213760" y="51454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6647040" y="4768920"/>
                <a:ext cx="1958400" cy="376200"/>
                <a:chOff x="6647040" y="4768920"/>
                <a:chExt cx="1958400" cy="376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64704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03836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430400" y="4768920"/>
                  <a:ext cx="39168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822080" y="4768920"/>
                  <a:ext cx="391320" cy="376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8213760" y="4768920"/>
                  <a:ext cx="391680" cy="376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6647040" y="5906880"/>
                <a:ext cx="1958400" cy="378000"/>
                <a:chOff x="6647040" y="5906880"/>
                <a:chExt cx="1958400" cy="37800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6647040" y="590688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0383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43040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22080" y="5906880"/>
                  <a:ext cx="39132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8213760" y="5906880"/>
                  <a:ext cx="391680" cy="3780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6647040" y="4390920"/>
                <a:ext cx="1958400" cy="378000"/>
                <a:chOff x="6647040" y="4390920"/>
                <a:chExt cx="1958400" cy="3780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664704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0383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43040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822080" y="4390920"/>
                  <a:ext cx="39132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213760" y="4390920"/>
                  <a:ext cx="391680" cy="3780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6647040" y="5529960"/>
                <a:ext cx="1958400" cy="376560"/>
                <a:chOff x="6647040" y="5529960"/>
                <a:chExt cx="1958400" cy="37656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647040" y="5529960"/>
                  <a:ext cx="39132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038360" y="5529960"/>
                  <a:ext cx="391680" cy="376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743040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822080" y="5529960"/>
                  <a:ext cx="39132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213760" y="5529960"/>
                  <a:ext cx="391680" cy="376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76" name=""/>
            <p:cNvGrpSpPr/>
            <p:nvPr/>
          </p:nvGrpSpPr>
          <p:grpSpPr>
            <a:xfrm>
              <a:off x="6836040" y="4530960"/>
              <a:ext cx="1597680" cy="1589400"/>
              <a:chOff x="6836040" y="4530960"/>
              <a:chExt cx="1597680" cy="1589400"/>
            </a:xfrm>
          </p:grpSpPr>
          <p:grpSp>
            <p:nvGrpSpPr>
              <p:cNvPr id="377" name=""/>
              <p:cNvGrpSpPr/>
              <p:nvPr/>
            </p:nvGrpSpPr>
            <p:grpSpPr>
              <a:xfrm>
                <a:off x="6836040" y="4530960"/>
                <a:ext cx="1597680" cy="1589400"/>
                <a:chOff x="6836040" y="4530960"/>
                <a:chExt cx="1597680" cy="1589400"/>
              </a:xfrm>
            </p:grpSpPr>
            <p:sp>
              <p:nvSpPr>
                <p:cNvPr id="378" name=""/>
                <p:cNvSpPr/>
                <p:nvPr/>
              </p:nvSpPr>
              <p:spPr>
                <a:xfrm flipV="1">
                  <a:off x="6836040" y="571860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 flipV="1">
                  <a:off x="7240680" y="5327640"/>
                  <a:ext cx="38880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 flipV="1">
                  <a:off x="7644240" y="4941360"/>
                  <a:ext cx="39024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 flipV="1">
                  <a:off x="8043480" y="4555800"/>
                  <a:ext cx="3902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 flipV="1">
                  <a:off x="6845400" y="533268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 flipV="1">
                  <a:off x="7250040" y="4941360"/>
                  <a:ext cx="3898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 flipV="1">
                  <a:off x="7649640" y="4561200"/>
                  <a:ext cx="38988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 flipV="1">
                  <a:off x="6876360" y="4927320"/>
                  <a:ext cx="38844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 flipV="1">
                  <a:off x="7281000" y="4536000"/>
                  <a:ext cx="388800" cy="37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 flipV="1">
                  <a:off x="6900480" y="4530960"/>
                  <a:ext cx="3898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 flipH="1" flipV="1">
                  <a:off x="7634520" y="570960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 flipH="1" flipV="1">
                  <a:off x="8019360" y="53128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 flipH="1" flipV="1">
                  <a:off x="7634520" y="5332680"/>
                  <a:ext cx="379080" cy="385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 flipH="1" flipV="1">
                  <a:off x="8043480" y="4955760"/>
                  <a:ext cx="380880" cy="387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 flipH="1" flipV="1">
                  <a:off x="8039160" y="5734440"/>
                  <a:ext cx="379080" cy="385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 flipV="1">
                  <a:off x="8408520" y="4600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 flipV="1">
                  <a:off x="7629480" y="53470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220880" y="575388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 flipV="1">
                  <a:off x="8034480" y="4955760"/>
                  <a:ext cx="0" cy="35172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 flipH="1" flipV="1">
                <a:off x="7247160" y="5720040"/>
                <a:ext cx="380520" cy="38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8" name=""/>
          <p:cNvSpPr/>
          <p:nvPr/>
        </p:nvSpPr>
        <p:spPr>
          <a:xfrm>
            <a:off x="944640" y="169344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273720" y="172224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617640" y="16887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81360" y="1211040"/>
            <a:ext cx="176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ossing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57600" y="3897000"/>
            <a:ext cx="183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rected flow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992160" y="66744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44640" y="4379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273720" y="4408200"/>
            <a:ext cx="33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617640" y="43747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"/>
          <p:cNvGrpSpPr/>
          <p:nvPr/>
        </p:nvGrpSpPr>
        <p:grpSpPr>
          <a:xfrm>
            <a:off x="6621480" y="1557360"/>
            <a:ext cx="1798920" cy="329760"/>
            <a:chOff x="6621480" y="1557360"/>
            <a:chExt cx="1798920" cy="329760"/>
          </a:xfrm>
        </p:grpSpPr>
        <p:sp>
          <p:nvSpPr>
            <p:cNvPr id="408" name=""/>
            <p:cNvSpPr/>
            <p:nvPr/>
          </p:nvSpPr>
          <p:spPr>
            <a:xfrm>
              <a:off x="6621480" y="1557360"/>
              <a:ext cx="276120" cy="255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996240" y="1580040"/>
              <a:ext cx="1424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lat area in DE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3870360" y="4414680"/>
            <a:ext cx="1861920" cy="1873080"/>
            <a:chOff x="3870360" y="4414680"/>
            <a:chExt cx="1861920" cy="1873080"/>
          </a:xfrm>
        </p:grpSpPr>
        <p:grpSp>
          <p:nvGrpSpPr>
            <p:cNvPr id="411" name=""/>
            <p:cNvGrpSpPr/>
            <p:nvPr/>
          </p:nvGrpSpPr>
          <p:grpSpPr>
            <a:xfrm>
              <a:off x="3870360" y="4418640"/>
              <a:ext cx="1861920" cy="1869120"/>
              <a:chOff x="3870360" y="4418640"/>
              <a:chExt cx="1861920" cy="1869120"/>
            </a:xfrm>
          </p:grpSpPr>
          <p:grpSp>
            <p:nvGrpSpPr>
              <p:cNvPr id="412" name=""/>
              <p:cNvGrpSpPr/>
              <p:nvPr/>
            </p:nvGrpSpPr>
            <p:grpSpPr>
              <a:xfrm>
                <a:off x="3870360" y="5167800"/>
                <a:ext cx="1861920" cy="372960"/>
                <a:chOff x="3870360" y="5167800"/>
                <a:chExt cx="1861920" cy="3729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24296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4615560" y="5167800"/>
                  <a:ext cx="37152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4987080" y="5167800"/>
                  <a:ext cx="372600" cy="3729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7036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5359680" y="5167800"/>
                  <a:ext cx="372600" cy="37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870360" y="4793040"/>
                <a:ext cx="1861920" cy="374760"/>
                <a:chOff x="3870360" y="4793040"/>
                <a:chExt cx="1861920" cy="37476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424296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4615560" y="479304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4987080" y="479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87036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5359680" y="479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4" name=""/>
              <p:cNvGrpSpPr/>
              <p:nvPr/>
            </p:nvGrpSpPr>
            <p:grpSpPr>
              <a:xfrm>
                <a:off x="3870360" y="5913000"/>
                <a:ext cx="1861920" cy="374760"/>
                <a:chOff x="3870360" y="5913000"/>
                <a:chExt cx="1861920" cy="37476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38703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424296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4615560" y="591300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8" name=""/>
                <p:cNvSpPr/>
                <p:nvPr/>
              </p:nvSpPr>
              <p:spPr>
                <a:xfrm>
                  <a:off x="49870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5359680" y="59130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3870360" y="4418640"/>
                <a:ext cx="1861920" cy="374400"/>
                <a:chOff x="3870360" y="4418640"/>
                <a:chExt cx="1861920" cy="37440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4242960" y="44186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87036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4615560" y="4418640"/>
                  <a:ext cx="37152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49870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5359680" y="44186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3870360" y="5538240"/>
                <a:ext cx="1861920" cy="374400"/>
                <a:chOff x="3870360" y="5538240"/>
                <a:chExt cx="1861920" cy="37440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4242960" y="5538240"/>
                  <a:ext cx="37260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4615560" y="5538240"/>
                  <a:ext cx="371520" cy="3744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387036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49870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5359680" y="5538240"/>
                  <a:ext cx="372600" cy="3744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42" name=""/>
            <p:cNvGrpSpPr/>
            <p:nvPr/>
          </p:nvGrpSpPr>
          <p:grpSpPr>
            <a:xfrm>
              <a:off x="4031280" y="4414680"/>
              <a:ext cx="1517040" cy="1700280"/>
              <a:chOff x="4031280" y="4414680"/>
              <a:chExt cx="1517040" cy="1700280"/>
            </a:xfrm>
          </p:grpSpPr>
          <p:sp>
            <p:nvSpPr>
              <p:cNvPr id="443" name=""/>
              <p:cNvSpPr/>
              <p:nvPr/>
            </p:nvSpPr>
            <p:spPr>
              <a:xfrm flipV="1">
                <a:off x="516780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 flipV="1">
                <a:off x="4792680" y="57315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 flipV="1">
                <a:off x="5183640" y="5337360"/>
                <a:ext cx="364680" cy="38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 flipH="1" flipV="1">
                <a:off x="5157360" y="459576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 flipH="1" flipV="1">
                <a:off x="4787280" y="46065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 flipV="1">
                <a:off x="4808160" y="49953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4031280" y="4969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4036320" y="571644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051800" y="535320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 flipH="1" flipV="1">
                <a:off x="4448520" y="537912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 flipH="1" flipV="1">
                <a:off x="4448520" y="500040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036320" y="4596120"/>
                <a:ext cx="38556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4298760" y="441468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 flipV="1">
                <a:off x="4432680" y="461664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443480" y="503172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4433040" y="4663080"/>
                <a:ext cx="0" cy="32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4421880" y="5736960"/>
                <a:ext cx="385560" cy="36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0" name=""/>
          <p:cNvGrpSpPr/>
          <p:nvPr/>
        </p:nvGrpSpPr>
        <p:grpSpPr>
          <a:xfrm>
            <a:off x="1139760" y="4414680"/>
            <a:ext cx="1861920" cy="1871640"/>
            <a:chOff x="1139760" y="4414680"/>
            <a:chExt cx="1861920" cy="1871640"/>
          </a:xfrm>
        </p:grpSpPr>
        <p:grpSp>
          <p:nvGrpSpPr>
            <p:cNvPr id="461" name=""/>
            <p:cNvGrpSpPr/>
            <p:nvPr/>
          </p:nvGrpSpPr>
          <p:grpSpPr>
            <a:xfrm>
              <a:off x="1139760" y="4414680"/>
              <a:ext cx="1861920" cy="1871640"/>
              <a:chOff x="1139760" y="4414680"/>
              <a:chExt cx="1861920" cy="1871640"/>
            </a:xfrm>
          </p:grpSpPr>
          <p:grpSp>
            <p:nvGrpSpPr>
              <p:cNvPr id="462" name=""/>
              <p:cNvGrpSpPr/>
              <p:nvPr/>
            </p:nvGrpSpPr>
            <p:grpSpPr>
              <a:xfrm>
                <a:off x="1139760" y="5164920"/>
                <a:ext cx="1861920" cy="373680"/>
                <a:chOff x="1139760" y="5164920"/>
                <a:chExt cx="1861920" cy="373680"/>
              </a:xfrm>
            </p:grpSpPr>
            <p:sp>
              <p:nvSpPr>
                <p:cNvPr id="463" name=""/>
                <p:cNvSpPr/>
                <p:nvPr/>
              </p:nvSpPr>
              <p:spPr>
                <a:xfrm>
                  <a:off x="151236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>
                  <a:off x="1884960" y="5164920"/>
                  <a:ext cx="37152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2256480" y="5164920"/>
                  <a:ext cx="372600" cy="3736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113976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2629080" y="5164920"/>
                  <a:ext cx="372600" cy="3736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8" name=""/>
              <p:cNvGrpSpPr/>
              <p:nvPr/>
            </p:nvGrpSpPr>
            <p:grpSpPr>
              <a:xfrm>
                <a:off x="1139760" y="4789440"/>
                <a:ext cx="1861920" cy="375120"/>
                <a:chOff x="1139760" y="4789440"/>
                <a:chExt cx="1861920" cy="375120"/>
              </a:xfrm>
            </p:grpSpPr>
            <p:sp>
              <p:nvSpPr>
                <p:cNvPr id="469" name=""/>
                <p:cNvSpPr/>
                <p:nvPr/>
              </p:nvSpPr>
              <p:spPr>
                <a:xfrm>
                  <a:off x="151236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1884960" y="4789440"/>
                  <a:ext cx="37152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2256480" y="4789440"/>
                  <a:ext cx="372600" cy="375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113976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3" name=""/>
                <p:cNvSpPr/>
                <p:nvPr/>
              </p:nvSpPr>
              <p:spPr>
                <a:xfrm>
                  <a:off x="2629080" y="478944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4" name=""/>
              <p:cNvGrpSpPr/>
              <p:nvPr/>
            </p:nvGrpSpPr>
            <p:grpSpPr>
              <a:xfrm>
                <a:off x="1139760" y="5911200"/>
                <a:ext cx="1861920" cy="375120"/>
                <a:chOff x="1139760" y="5911200"/>
                <a:chExt cx="1861920" cy="375120"/>
              </a:xfrm>
            </p:grpSpPr>
            <p:sp>
              <p:nvSpPr>
                <p:cNvPr id="475" name=""/>
                <p:cNvSpPr/>
                <p:nvPr/>
              </p:nvSpPr>
              <p:spPr>
                <a:xfrm>
                  <a:off x="11397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6" name=""/>
                <p:cNvSpPr/>
                <p:nvPr/>
              </p:nvSpPr>
              <p:spPr>
                <a:xfrm>
                  <a:off x="151236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1884960" y="5911200"/>
                  <a:ext cx="37152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2564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2629080" y="5911200"/>
                  <a:ext cx="372600" cy="375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1139760" y="4414680"/>
                <a:ext cx="1861920" cy="374760"/>
                <a:chOff x="1139760" y="4414680"/>
                <a:chExt cx="1861920" cy="37476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1512360" y="44146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113976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1884960" y="44146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2564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9080" y="44146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1139760" y="5536080"/>
                <a:ext cx="1861920" cy="374760"/>
                <a:chOff x="1139760" y="5536080"/>
                <a:chExt cx="1861920" cy="37476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1512360" y="553608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1884960" y="553608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113976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2564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2629080" y="55360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92" name=""/>
            <p:cNvGrpSpPr/>
            <p:nvPr/>
          </p:nvGrpSpPr>
          <p:grpSpPr>
            <a:xfrm>
              <a:off x="1301040" y="4571280"/>
              <a:ext cx="1517040" cy="1541880"/>
              <a:chOff x="1301040" y="4571280"/>
              <a:chExt cx="1517040" cy="1541880"/>
            </a:xfrm>
          </p:grpSpPr>
          <p:grpSp>
            <p:nvGrpSpPr>
              <p:cNvPr id="493" name=""/>
              <p:cNvGrpSpPr/>
              <p:nvPr/>
            </p:nvGrpSpPr>
            <p:grpSpPr>
              <a:xfrm>
                <a:off x="1301040" y="4571280"/>
                <a:ext cx="1517040" cy="1541880"/>
                <a:chOff x="1301040" y="4571280"/>
                <a:chExt cx="1517040" cy="1541880"/>
              </a:xfrm>
            </p:grpSpPr>
            <p:sp>
              <p:nvSpPr>
                <p:cNvPr id="494" name=""/>
                <p:cNvSpPr/>
                <p:nvPr/>
              </p:nvSpPr>
              <p:spPr>
                <a:xfrm flipV="1">
                  <a:off x="243756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 flipV="1">
                  <a:off x="2062080" y="572904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V="1">
                  <a:off x="2453400" y="5334120"/>
                  <a:ext cx="364680" cy="384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 flipH="1" flipV="1">
                  <a:off x="2426760" y="459180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 flipH="1" flipV="1">
                  <a:off x="2056680" y="46018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 flipH="1" flipV="1">
                  <a:off x="2077560" y="49914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0" name=""/>
                <p:cNvSpPr/>
                <p:nvPr/>
              </p:nvSpPr>
              <p:spPr>
                <a:xfrm>
                  <a:off x="1301040" y="496584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>
                  <a:off x="1305360" y="57135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1321200" y="53499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 flipV="1">
                  <a:off x="1717920" y="5380920"/>
                  <a:ext cx="38592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 flipH="1" flipV="1">
                  <a:off x="1712520" y="500220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1649520" y="457128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1305360" y="4592160"/>
                  <a:ext cx="385560" cy="363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1931760" y="479340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1582560" y="4803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1576080" y="518508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96320" y="5739480"/>
                <a:ext cx="385560" cy="36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1" name=""/>
          <p:cNvGrpSpPr/>
          <p:nvPr/>
        </p:nvGrpSpPr>
        <p:grpSpPr>
          <a:xfrm>
            <a:off x="3870360" y="1550880"/>
            <a:ext cx="1861920" cy="1834920"/>
            <a:chOff x="3870360" y="1550880"/>
            <a:chExt cx="1861920" cy="1834920"/>
          </a:xfrm>
        </p:grpSpPr>
        <p:grpSp>
          <p:nvGrpSpPr>
            <p:cNvPr id="512" name=""/>
            <p:cNvGrpSpPr/>
            <p:nvPr/>
          </p:nvGrpSpPr>
          <p:grpSpPr>
            <a:xfrm>
              <a:off x="3870360" y="1550880"/>
              <a:ext cx="1861920" cy="1834920"/>
              <a:chOff x="3870360" y="1550880"/>
              <a:chExt cx="1861920" cy="1834920"/>
            </a:xfrm>
          </p:grpSpPr>
          <p:grpSp>
            <p:nvGrpSpPr>
              <p:cNvPr id="513" name=""/>
              <p:cNvGrpSpPr/>
              <p:nvPr/>
            </p:nvGrpSpPr>
            <p:grpSpPr>
              <a:xfrm>
                <a:off x="3870360" y="2286360"/>
                <a:ext cx="1861920" cy="366480"/>
                <a:chOff x="3870360" y="2286360"/>
                <a:chExt cx="1861920" cy="366480"/>
              </a:xfrm>
            </p:grpSpPr>
            <p:sp>
              <p:nvSpPr>
                <p:cNvPr id="514" name=""/>
                <p:cNvSpPr/>
                <p:nvPr/>
              </p:nvSpPr>
              <p:spPr>
                <a:xfrm>
                  <a:off x="424296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615560" y="2286360"/>
                  <a:ext cx="37152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87080" y="2286360"/>
                  <a:ext cx="372600" cy="3664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87036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5359680" y="2286360"/>
                  <a:ext cx="372600" cy="3664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9" name=""/>
              <p:cNvGrpSpPr/>
              <p:nvPr/>
            </p:nvGrpSpPr>
            <p:grpSpPr>
              <a:xfrm>
                <a:off x="3870360" y="1918440"/>
                <a:ext cx="1861920" cy="367920"/>
                <a:chOff x="3870360" y="1918440"/>
                <a:chExt cx="1861920" cy="367920"/>
              </a:xfrm>
            </p:grpSpPr>
            <p:sp>
              <p:nvSpPr>
                <p:cNvPr id="520" name=""/>
                <p:cNvSpPr/>
                <p:nvPr/>
              </p:nvSpPr>
              <p:spPr>
                <a:xfrm>
                  <a:off x="424296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4615560" y="1918440"/>
                  <a:ext cx="37152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4987080" y="1918440"/>
                  <a:ext cx="372600" cy="3679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87036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5359680" y="191844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870360" y="3017880"/>
                <a:ext cx="1861920" cy="367920"/>
                <a:chOff x="3870360" y="3017880"/>
                <a:chExt cx="1861920" cy="36792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8703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424296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4615560" y="3017880"/>
                  <a:ext cx="37152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49870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5359680" y="3017880"/>
                  <a:ext cx="372600" cy="367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1" name=""/>
              <p:cNvGrpSpPr/>
              <p:nvPr/>
            </p:nvGrpSpPr>
            <p:grpSpPr>
              <a:xfrm>
                <a:off x="3870360" y="1550880"/>
                <a:ext cx="1861920" cy="367560"/>
                <a:chOff x="3870360" y="1550880"/>
                <a:chExt cx="1861920" cy="36756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242960" y="155088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7036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4615560" y="155088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49870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359680" y="155088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3870360" y="2650320"/>
                <a:ext cx="1861920" cy="367560"/>
                <a:chOff x="3870360" y="2650320"/>
                <a:chExt cx="1861920" cy="36756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242960" y="265032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615560" y="265032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387036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49870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5359680" y="26503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43" name=""/>
            <p:cNvGrpSpPr/>
            <p:nvPr/>
          </p:nvGrpSpPr>
          <p:grpSpPr>
            <a:xfrm>
              <a:off x="4031280" y="1704960"/>
              <a:ext cx="1517400" cy="1511640"/>
              <a:chOff x="4031280" y="1704960"/>
              <a:chExt cx="1517400" cy="1511640"/>
            </a:xfrm>
          </p:grpSpPr>
          <p:grpSp>
            <p:nvGrpSpPr>
              <p:cNvPr id="544" name=""/>
              <p:cNvGrpSpPr/>
              <p:nvPr/>
            </p:nvGrpSpPr>
            <p:grpSpPr>
              <a:xfrm>
                <a:off x="4031280" y="1704960"/>
                <a:ext cx="1517400" cy="1511640"/>
                <a:chOff x="4031280" y="1704960"/>
                <a:chExt cx="1517400" cy="1511640"/>
              </a:xfrm>
            </p:grpSpPr>
            <p:sp>
              <p:nvSpPr>
                <p:cNvPr id="545" name=""/>
                <p:cNvSpPr/>
                <p:nvPr/>
              </p:nvSpPr>
              <p:spPr>
                <a:xfrm flipV="1">
                  <a:off x="516816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 flipV="1">
                  <a:off x="4793040" y="284004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V="1">
                  <a:off x="5184000" y="2452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flipV="1">
                  <a:off x="5157360" y="172512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 flipH="1" flipV="1">
                  <a:off x="4787640" y="173520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4781880" y="20862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031280" y="209160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4036680" y="28245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4052520" y="246816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4422240" y="2468160"/>
                  <a:ext cx="38556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4416840" y="20966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4380480" y="170496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036680" y="1725120"/>
                  <a:ext cx="385920" cy="3564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504720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4697280" y="22921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4691520" y="2662920"/>
                  <a:ext cx="25236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</a:rPr>
                    <a:t>•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1" name=""/>
              <p:cNvSpPr/>
              <p:nvPr/>
            </p:nvSpPr>
            <p:spPr>
              <a:xfrm>
                <a:off x="4428000" y="2840040"/>
                <a:ext cx="385920" cy="35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2" name=""/>
          <p:cNvGrpSpPr/>
          <p:nvPr/>
        </p:nvGrpSpPr>
        <p:grpSpPr>
          <a:xfrm>
            <a:off x="1139760" y="1382760"/>
            <a:ext cx="1861920" cy="2020320"/>
            <a:chOff x="1139760" y="1382760"/>
            <a:chExt cx="1861920" cy="2020320"/>
          </a:xfrm>
        </p:grpSpPr>
        <p:grpSp>
          <p:nvGrpSpPr>
            <p:cNvPr id="563" name=""/>
            <p:cNvGrpSpPr/>
            <p:nvPr/>
          </p:nvGrpSpPr>
          <p:grpSpPr>
            <a:xfrm>
              <a:off x="1139760" y="1569600"/>
              <a:ext cx="1861920" cy="1833480"/>
              <a:chOff x="1139760" y="1569600"/>
              <a:chExt cx="1861920" cy="1833480"/>
            </a:xfrm>
          </p:grpSpPr>
          <p:grpSp>
            <p:nvGrpSpPr>
              <p:cNvPr id="564" name=""/>
              <p:cNvGrpSpPr/>
              <p:nvPr/>
            </p:nvGrpSpPr>
            <p:grpSpPr>
              <a:xfrm>
                <a:off x="1139760" y="2304720"/>
                <a:ext cx="1861920" cy="366120"/>
                <a:chOff x="1139760" y="2304720"/>
                <a:chExt cx="1861920" cy="36612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151236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884960" y="2304720"/>
                  <a:ext cx="37152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"/>
                <p:cNvSpPr/>
                <p:nvPr/>
              </p:nvSpPr>
              <p:spPr>
                <a:xfrm>
                  <a:off x="2256480" y="2304720"/>
                  <a:ext cx="372600" cy="3661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113976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2629080" y="2304720"/>
                  <a:ext cx="372600" cy="366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0" name=""/>
              <p:cNvGrpSpPr/>
              <p:nvPr/>
            </p:nvGrpSpPr>
            <p:grpSpPr>
              <a:xfrm>
                <a:off x="1139760" y="1936800"/>
                <a:ext cx="1861920" cy="367560"/>
                <a:chOff x="1139760" y="1936800"/>
                <a:chExt cx="1861920" cy="367560"/>
              </a:xfrm>
            </p:grpSpPr>
            <p:sp>
              <p:nvSpPr>
                <p:cNvPr id="571" name=""/>
                <p:cNvSpPr/>
                <p:nvPr/>
              </p:nvSpPr>
              <p:spPr>
                <a:xfrm>
                  <a:off x="151236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1884960" y="1936800"/>
                  <a:ext cx="37152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2256480" y="1936800"/>
                  <a:ext cx="372600" cy="3675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13976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629080" y="193680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6" name=""/>
              <p:cNvGrpSpPr/>
              <p:nvPr/>
            </p:nvGrpSpPr>
            <p:grpSpPr>
              <a:xfrm>
                <a:off x="1139760" y="3035520"/>
                <a:ext cx="1861920" cy="367560"/>
                <a:chOff x="1139760" y="3035520"/>
                <a:chExt cx="1861920" cy="367560"/>
              </a:xfrm>
            </p:grpSpPr>
            <p:sp>
              <p:nvSpPr>
                <p:cNvPr id="577" name=""/>
                <p:cNvSpPr/>
                <p:nvPr/>
              </p:nvSpPr>
              <p:spPr>
                <a:xfrm>
                  <a:off x="11397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8" name=""/>
                <p:cNvSpPr/>
                <p:nvPr/>
              </p:nvSpPr>
              <p:spPr>
                <a:xfrm>
                  <a:off x="151236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1884960" y="3035520"/>
                  <a:ext cx="37152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2564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629080" y="3035520"/>
                  <a:ext cx="372600" cy="3675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139760" y="1569600"/>
                <a:ext cx="1861920" cy="367200"/>
                <a:chOff x="1139760" y="1569600"/>
                <a:chExt cx="1861920" cy="36720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512360" y="156960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13976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84960" y="1569600"/>
                  <a:ext cx="37152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22564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2629080" y="156960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8" name=""/>
              <p:cNvGrpSpPr/>
              <p:nvPr/>
            </p:nvGrpSpPr>
            <p:grpSpPr>
              <a:xfrm>
                <a:off x="1139760" y="2668320"/>
                <a:ext cx="1861920" cy="367200"/>
                <a:chOff x="1139760" y="2668320"/>
                <a:chExt cx="1861920" cy="367200"/>
              </a:xfrm>
            </p:grpSpPr>
            <p:sp>
              <p:nvSpPr>
                <p:cNvPr id="589" name=""/>
                <p:cNvSpPr/>
                <p:nvPr/>
              </p:nvSpPr>
              <p:spPr>
                <a:xfrm>
                  <a:off x="1512360" y="2668320"/>
                  <a:ext cx="37260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84960" y="2668320"/>
                  <a:ext cx="371520" cy="3672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13976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564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629080" y="2668320"/>
                  <a:ext cx="372600" cy="3672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594" name=""/>
            <p:cNvGrpSpPr/>
            <p:nvPr/>
          </p:nvGrpSpPr>
          <p:grpSpPr>
            <a:xfrm>
              <a:off x="1267200" y="1382760"/>
              <a:ext cx="1550160" cy="1850400"/>
              <a:chOff x="1267200" y="1382760"/>
              <a:chExt cx="1550160" cy="1850400"/>
            </a:xfrm>
          </p:grpSpPr>
          <p:grpSp>
            <p:nvGrpSpPr>
              <p:cNvPr id="595" name=""/>
              <p:cNvGrpSpPr/>
              <p:nvPr/>
            </p:nvGrpSpPr>
            <p:grpSpPr>
              <a:xfrm>
                <a:off x="1267200" y="1382760"/>
                <a:ext cx="1550160" cy="1850400"/>
                <a:chOff x="1267200" y="1382760"/>
                <a:chExt cx="1550160" cy="1850400"/>
              </a:xfrm>
            </p:grpSpPr>
            <p:sp>
              <p:nvSpPr>
                <p:cNvPr id="596" name=""/>
                <p:cNvSpPr/>
                <p:nvPr/>
              </p:nvSpPr>
              <p:spPr>
                <a:xfrm flipV="1">
                  <a:off x="243720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 flipV="1">
                  <a:off x="2061720" y="2856960"/>
                  <a:ext cx="364680" cy="37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 flipV="1">
                  <a:off x="2452680" y="2470680"/>
                  <a:ext cx="364680" cy="376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 flipH="1" flipV="1">
                  <a:off x="2426400" y="174312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 flipH="1" flipV="1">
                  <a:off x="2056320" y="1753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 flipH="1" flipV="1">
                  <a:off x="2051280" y="21042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2" name=""/>
                <p:cNvSpPr/>
                <p:nvPr/>
              </p:nvSpPr>
              <p:spPr>
                <a:xfrm flipH="1" flipV="1">
                  <a:off x="1691640" y="2485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3" name=""/>
                <p:cNvSpPr/>
                <p:nvPr/>
              </p:nvSpPr>
              <p:spPr>
                <a:xfrm flipH="1" flipV="1">
                  <a:off x="1691640" y="211968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 flipH="1" flipV="1">
                  <a:off x="1654920" y="173304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1331640" y="2872800"/>
                  <a:ext cx="385560" cy="356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 flipV="1">
                  <a:off x="1686600" y="253728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7" name=""/>
                <p:cNvSpPr/>
                <p:nvPr/>
              </p:nvSpPr>
              <p:spPr>
                <a:xfrm flipV="1">
                  <a:off x="1665720" y="17895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8" name=""/>
                <p:cNvSpPr/>
                <p:nvPr/>
              </p:nvSpPr>
              <p:spPr>
                <a:xfrm flipV="1">
                  <a:off x="1676160" y="216072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1267200" y="175644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1288080" y="2126880"/>
                  <a:ext cx="34920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1288080" y="2503800"/>
                  <a:ext cx="349200" cy="5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2" name=""/>
                <p:cNvSpPr/>
                <p:nvPr/>
              </p:nvSpPr>
              <p:spPr>
                <a:xfrm flipV="1">
                  <a:off x="1660680" y="1382760"/>
                  <a:ext cx="0" cy="3405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3" name=""/>
              <p:cNvSpPr/>
              <p:nvPr/>
            </p:nvSpPr>
            <p:spPr>
              <a:xfrm>
                <a:off x="1696320" y="2867400"/>
                <a:ext cx="385560" cy="35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4" name=""/>
          <p:cNvGrpSpPr/>
          <p:nvPr/>
        </p:nvGrpSpPr>
        <p:grpSpPr>
          <a:xfrm>
            <a:off x="6672240" y="4273560"/>
            <a:ext cx="1861920" cy="2029680"/>
            <a:chOff x="6672240" y="4273560"/>
            <a:chExt cx="1861920" cy="2029680"/>
          </a:xfrm>
        </p:grpSpPr>
        <p:grpSp>
          <p:nvGrpSpPr>
            <p:cNvPr id="615" name=""/>
            <p:cNvGrpSpPr/>
            <p:nvPr/>
          </p:nvGrpSpPr>
          <p:grpSpPr>
            <a:xfrm>
              <a:off x="6672240" y="4433040"/>
              <a:ext cx="1861920" cy="1870200"/>
              <a:chOff x="6672240" y="4433040"/>
              <a:chExt cx="1861920" cy="1870200"/>
            </a:xfrm>
          </p:grpSpPr>
          <p:grpSp>
            <p:nvGrpSpPr>
              <p:cNvPr id="616" name=""/>
              <p:cNvGrpSpPr/>
              <p:nvPr/>
            </p:nvGrpSpPr>
            <p:grpSpPr>
              <a:xfrm>
                <a:off x="6672240" y="5182560"/>
                <a:ext cx="1861920" cy="373320"/>
                <a:chOff x="6672240" y="5182560"/>
                <a:chExt cx="1861920" cy="373320"/>
              </a:xfrm>
            </p:grpSpPr>
            <p:sp>
              <p:nvSpPr>
                <p:cNvPr id="617" name=""/>
                <p:cNvSpPr/>
                <p:nvPr/>
              </p:nvSpPr>
              <p:spPr>
                <a:xfrm>
                  <a:off x="704484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7417440" y="5182560"/>
                  <a:ext cx="37152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7788960" y="5182560"/>
                  <a:ext cx="372600" cy="37332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0" name=""/>
                <p:cNvSpPr/>
                <p:nvPr/>
              </p:nvSpPr>
              <p:spPr>
                <a:xfrm>
                  <a:off x="667224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1" name=""/>
                <p:cNvSpPr/>
                <p:nvPr/>
              </p:nvSpPr>
              <p:spPr>
                <a:xfrm>
                  <a:off x="8161560" y="5182560"/>
                  <a:ext cx="372600" cy="3733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2" name=""/>
              <p:cNvGrpSpPr/>
              <p:nvPr/>
            </p:nvGrpSpPr>
            <p:grpSpPr>
              <a:xfrm>
                <a:off x="6672240" y="4807800"/>
                <a:ext cx="1861920" cy="374760"/>
                <a:chOff x="6672240" y="4807800"/>
                <a:chExt cx="1861920" cy="374760"/>
              </a:xfrm>
            </p:grpSpPr>
            <p:sp>
              <p:nvSpPr>
                <p:cNvPr id="623" name=""/>
                <p:cNvSpPr/>
                <p:nvPr/>
              </p:nvSpPr>
              <p:spPr>
                <a:xfrm>
                  <a:off x="704484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4" name=""/>
                <p:cNvSpPr/>
                <p:nvPr/>
              </p:nvSpPr>
              <p:spPr>
                <a:xfrm>
                  <a:off x="7417440" y="480780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5" name=""/>
                <p:cNvSpPr/>
                <p:nvPr/>
              </p:nvSpPr>
              <p:spPr>
                <a:xfrm>
                  <a:off x="7788960" y="480780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6" name=""/>
                <p:cNvSpPr/>
                <p:nvPr/>
              </p:nvSpPr>
              <p:spPr>
                <a:xfrm>
                  <a:off x="667224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7" name=""/>
                <p:cNvSpPr/>
                <p:nvPr/>
              </p:nvSpPr>
              <p:spPr>
                <a:xfrm>
                  <a:off x="8161560" y="480780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28" name=""/>
              <p:cNvGrpSpPr/>
              <p:nvPr/>
            </p:nvGrpSpPr>
            <p:grpSpPr>
              <a:xfrm>
                <a:off x="6672240" y="5928480"/>
                <a:ext cx="1861920" cy="374760"/>
                <a:chOff x="6672240" y="5928480"/>
                <a:chExt cx="1861920" cy="374760"/>
              </a:xfrm>
            </p:grpSpPr>
            <p:sp>
              <p:nvSpPr>
                <p:cNvPr id="629" name=""/>
                <p:cNvSpPr/>
                <p:nvPr/>
              </p:nvSpPr>
              <p:spPr>
                <a:xfrm>
                  <a:off x="66722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0" name=""/>
                <p:cNvSpPr/>
                <p:nvPr/>
              </p:nvSpPr>
              <p:spPr>
                <a:xfrm>
                  <a:off x="704484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1" name=""/>
                <p:cNvSpPr/>
                <p:nvPr/>
              </p:nvSpPr>
              <p:spPr>
                <a:xfrm>
                  <a:off x="7417440" y="592848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2" name=""/>
                <p:cNvSpPr/>
                <p:nvPr/>
              </p:nvSpPr>
              <p:spPr>
                <a:xfrm>
                  <a:off x="77889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3" name=""/>
                <p:cNvSpPr/>
                <p:nvPr/>
              </p:nvSpPr>
              <p:spPr>
                <a:xfrm>
                  <a:off x="8161560" y="592848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4" name=""/>
              <p:cNvGrpSpPr/>
              <p:nvPr/>
            </p:nvGrpSpPr>
            <p:grpSpPr>
              <a:xfrm>
                <a:off x="6672240" y="4433040"/>
                <a:ext cx="1861920" cy="374760"/>
                <a:chOff x="6672240" y="4433040"/>
                <a:chExt cx="1861920" cy="374760"/>
              </a:xfrm>
            </p:grpSpPr>
            <p:sp>
              <p:nvSpPr>
                <p:cNvPr id="635" name=""/>
                <p:cNvSpPr/>
                <p:nvPr/>
              </p:nvSpPr>
              <p:spPr>
                <a:xfrm>
                  <a:off x="7044840" y="443304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6" name=""/>
                <p:cNvSpPr/>
                <p:nvPr/>
              </p:nvSpPr>
              <p:spPr>
                <a:xfrm>
                  <a:off x="667224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7" name=""/>
                <p:cNvSpPr/>
                <p:nvPr/>
              </p:nvSpPr>
              <p:spPr>
                <a:xfrm>
                  <a:off x="7417440" y="4433040"/>
                  <a:ext cx="37152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8" name=""/>
                <p:cNvSpPr/>
                <p:nvPr/>
              </p:nvSpPr>
              <p:spPr>
                <a:xfrm>
                  <a:off x="77889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"/>
                <p:cNvSpPr/>
                <p:nvPr/>
              </p:nvSpPr>
              <p:spPr>
                <a:xfrm>
                  <a:off x="8161560" y="443304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0" name=""/>
              <p:cNvGrpSpPr/>
              <p:nvPr/>
            </p:nvGrpSpPr>
            <p:grpSpPr>
              <a:xfrm>
                <a:off x="6672240" y="5553720"/>
                <a:ext cx="1861920" cy="374760"/>
                <a:chOff x="6672240" y="5553720"/>
                <a:chExt cx="1861920" cy="374760"/>
              </a:xfrm>
            </p:grpSpPr>
            <p:sp>
              <p:nvSpPr>
                <p:cNvPr id="641" name=""/>
                <p:cNvSpPr/>
                <p:nvPr/>
              </p:nvSpPr>
              <p:spPr>
                <a:xfrm>
                  <a:off x="7044840" y="5553720"/>
                  <a:ext cx="37260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2" name=""/>
                <p:cNvSpPr/>
                <p:nvPr/>
              </p:nvSpPr>
              <p:spPr>
                <a:xfrm>
                  <a:off x="7417440" y="5553720"/>
                  <a:ext cx="371520" cy="37476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"/>
                <p:cNvSpPr/>
                <p:nvPr/>
              </p:nvSpPr>
              <p:spPr>
                <a:xfrm>
                  <a:off x="667224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4" name=""/>
                <p:cNvSpPr/>
                <p:nvPr/>
              </p:nvSpPr>
              <p:spPr>
                <a:xfrm>
                  <a:off x="77889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5" name=""/>
                <p:cNvSpPr/>
                <p:nvPr/>
              </p:nvSpPr>
              <p:spPr>
                <a:xfrm>
                  <a:off x="8161560" y="5553720"/>
                  <a:ext cx="372600" cy="3747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" name=""/>
            <p:cNvGrpSpPr/>
            <p:nvPr/>
          </p:nvGrpSpPr>
          <p:grpSpPr>
            <a:xfrm>
              <a:off x="6833160" y="4273560"/>
              <a:ext cx="1517400" cy="1857240"/>
              <a:chOff x="6833160" y="4273560"/>
              <a:chExt cx="1517400" cy="18572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6833160" y="4610880"/>
                <a:ext cx="1517400" cy="1519920"/>
                <a:chOff x="6833160" y="4610880"/>
                <a:chExt cx="1517400" cy="1519920"/>
              </a:xfrm>
            </p:grpSpPr>
            <p:sp>
              <p:nvSpPr>
                <p:cNvPr id="648" name=""/>
                <p:cNvSpPr/>
                <p:nvPr/>
              </p:nvSpPr>
              <p:spPr>
                <a:xfrm flipV="1">
                  <a:off x="797004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7594920" y="574704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V="1">
                  <a:off x="7985880" y="5352480"/>
                  <a:ext cx="364680" cy="383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1" name=""/>
                <p:cNvSpPr/>
                <p:nvPr/>
              </p:nvSpPr>
              <p:spPr>
                <a:xfrm flipH="1" flipV="1">
                  <a:off x="7959240" y="4610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2" name=""/>
                <p:cNvSpPr/>
                <p:nvPr/>
              </p:nvSpPr>
              <p:spPr>
                <a:xfrm flipH="1" flipV="1">
                  <a:off x="7589520" y="4620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3" name=""/>
                <p:cNvSpPr/>
                <p:nvPr/>
              </p:nvSpPr>
              <p:spPr>
                <a:xfrm flipH="1" flipV="1">
                  <a:off x="7610040" y="50101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4" name=""/>
                <p:cNvSpPr/>
                <p:nvPr/>
              </p:nvSpPr>
              <p:spPr>
                <a:xfrm>
                  <a:off x="6833160" y="498420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5" name=""/>
                <p:cNvSpPr/>
                <p:nvPr/>
              </p:nvSpPr>
              <p:spPr>
                <a:xfrm>
                  <a:off x="6838560" y="573120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6" name=""/>
                <p:cNvSpPr/>
                <p:nvPr/>
              </p:nvSpPr>
              <p:spPr>
                <a:xfrm>
                  <a:off x="6854400" y="536796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 flipH="1" flipV="1">
                  <a:off x="7250400" y="53938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 flipH="1" flipV="1">
                  <a:off x="7250400" y="501552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9" name=""/>
                <p:cNvSpPr/>
                <p:nvPr/>
              </p:nvSpPr>
              <p:spPr>
                <a:xfrm>
                  <a:off x="6838560" y="4610880"/>
                  <a:ext cx="38592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0" name=""/>
                <p:cNvSpPr/>
                <p:nvPr/>
              </p:nvSpPr>
              <p:spPr>
                <a:xfrm flipH="1" flipV="1">
                  <a:off x="7234560" y="463176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 flipV="1">
                  <a:off x="7245360" y="5046120"/>
                  <a:ext cx="0" cy="3265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7234920" y="4678200"/>
                  <a:ext cx="0" cy="326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224120" y="5752080"/>
                  <a:ext cx="385560" cy="362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64" name=""/>
              <p:cNvSpPr/>
              <p:nvPr/>
            </p:nvSpPr>
            <p:spPr>
              <a:xfrm flipV="1">
                <a:off x="7234920" y="4273560"/>
                <a:ext cx="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5" name=""/>
          <p:cNvSpPr/>
          <p:nvPr/>
        </p:nvSpPr>
        <p:spPr>
          <a:xfrm>
            <a:off x="3814560" y="108936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86840" y="110844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082520" y="3719880"/>
            <a:ext cx="2198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1st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772080" y="3748320"/>
            <a:ext cx="2923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2nd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566040" y="3738960"/>
            <a:ext cx="292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3th  loop i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t-remove mode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99216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1" name=""/>
          <p:cNvGrpSpPr/>
          <p:nvPr/>
        </p:nvGrpSpPr>
        <p:grpSpPr>
          <a:xfrm>
            <a:off x="3849840" y="1565280"/>
            <a:ext cx="2137320" cy="2036160"/>
            <a:chOff x="3849840" y="1565280"/>
            <a:chExt cx="2137320" cy="2036160"/>
          </a:xfrm>
        </p:grpSpPr>
        <p:grpSp>
          <p:nvGrpSpPr>
            <p:cNvPr id="672" name=""/>
            <p:cNvGrpSpPr/>
            <p:nvPr/>
          </p:nvGrpSpPr>
          <p:grpSpPr>
            <a:xfrm>
              <a:off x="3849840" y="1565280"/>
              <a:ext cx="2137320" cy="2036160"/>
              <a:chOff x="3849840" y="1565280"/>
              <a:chExt cx="2137320" cy="2036160"/>
            </a:xfrm>
          </p:grpSpPr>
          <p:grpSp>
            <p:nvGrpSpPr>
              <p:cNvPr id="673" name=""/>
              <p:cNvGrpSpPr/>
              <p:nvPr/>
            </p:nvGrpSpPr>
            <p:grpSpPr>
              <a:xfrm>
                <a:off x="3849840" y="2381400"/>
                <a:ext cx="2137320" cy="406440"/>
                <a:chOff x="3849840" y="2381400"/>
                <a:chExt cx="2137320" cy="40644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277520" y="238140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05200" y="238140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51314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7" name=""/>
                <p:cNvSpPr/>
                <p:nvPr/>
              </p:nvSpPr>
              <p:spPr>
                <a:xfrm>
                  <a:off x="3849840" y="238140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8" name=""/>
                <p:cNvSpPr/>
                <p:nvPr/>
              </p:nvSpPr>
              <p:spPr>
                <a:xfrm>
                  <a:off x="5559120" y="238140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9" name=""/>
              <p:cNvGrpSpPr/>
              <p:nvPr/>
            </p:nvGrpSpPr>
            <p:grpSpPr>
              <a:xfrm>
                <a:off x="3849840" y="1973160"/>
                <a:ext cx="2137320" cy="408240"/>
                <a:chOff x="3849840" y="1973160"/>
                <a:chExt cx="2137320" cy="408240"/>
              </a:xfrm>
            </p:grpSpPr>
            <p:sp>
              <p:nvSpPr>
                <p:cNvPr id="680" name=""/>
                <p:cNvSpPr/>
                <p:nvPr/>
              </p:nvSpPr>
              <p:spPr>
                <a:xfrm>
                  <a:off x="4277520" y="197316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1" name=""/>
                <p:cNvSpPr/>
                <p:nvPr/>
              </p:nvSpPr>
              <p:spPr>
                <a:xfrm>
                  <a:off x="4705200" y="19731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51314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849840" y="19731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5559120" y="19731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5" name=""/>
              <p:cNvGrpSpPr/>
              <p:nvPr/>
            </p:nvGrpSpPr>
            <p:grpSpPr>
              <a:xfrm>
                <a:off x="3849840" y="3193200"/>
                <a:ext cx="2137320" cy="408240"/>
                <a:chOff x="3849840" y="3193200"/>
                <a:chExt cx="2137320" cy="408240"/>
              </a:xfrm>
            </p:grpSpPr>
            <p:sp>
              <p:nvSpPr>
                <p:cNvPr id="686" name=""/>
                <p:cNvSpPr/>
                <p:nvPr/>
              </p:nvSpPr>
              <p:spPr>
                <a:xfrm>
                  <a:off x="38498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427752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4705200" y="319320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131440" y="319320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5559120" y="319320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3849840" y="1565280"/>
                <a:ext cx="2137320" cy="407880"/>
                <a:chOff x="3849840" y="1565280"/>
                <a:chExt cx="2137320" cy="40788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427752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38498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4" name=""/>
                <p:cNvSpPr/>
                <p:nvPr/>
              </p:nvSpPr>
              <p:spPr>
                <a:xfrm>
                  <a:off x="4705200" y="15652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131440" y="15652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9120" y="15652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7" name=""/>
              <p:cNvGrpSpPr/>
              <p:nvPr/>
            </p:nvGrpSpPr>
            <p:grpSpPr>
              <a:xfrm>
                <a:off x="3849840" y="2785320"/>
                <a:ext cx="2137320" cy="407880"/>
                <a:chOff x="3849840" y="2785320"/>
                <a:chExt cx="2137320" cy="407880"/>
              </a:xfrm>
            </p:grpSpPr>
            <p:sp>
              <p:nvSpPr>
                <p:cNvPr id="698" name=""/>
                <p:cNvSpPr/>
                <p:nvPr/>
              </p:nvSpPr>
              <p:spPr>
                <a:xfrm>
                  <a:off x="4277520" y="27853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4705200" y="278532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38498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131440" y="27853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2" name=""/>
                <p:cNvSpPr/>
                <p:nvPr/>
              </p:nvSpPr>
              <p:spPr>
                <a:xfrm>
                  <a:off x="5559120" y="27853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03" name=""/>
            <p:cNvGrpSpPr/>
            <p:nvPr/>
          </p:nvGrpSpPr>
          <p:grpSpPr>
            <a:xfrm>
              <a:off x="4376520" y="2171880"/>
              <a:ext cx="536760" cy="1252800"/>
              <a:chOff x="4376520" y="2171880"/>
              <a:chExt cx="536760" cy="1252800"/>
            </a:xfrm>
          </p:grpSpPr>
          <p:sp>
            <p:nvSpPr>
              <p:cNvPr id="704" name=""/>
              <p:cNvSpPr/>
              <p:nvPr/>
            </p:nvSpPr>
            <p:spPr>
              <a:xfrm flipV="1">
                <a:off x="4495320" y="3007440"/>
                <a:ext cx="0" cy="41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4487760" y="2193120"/>
                <a:ext cx="0" cy="38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4489920" y="2171880"/>
                <a:ext cx="423360" cy="41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>
                <a:off x="4526280" y="2589120"/>
                <a:ext cx="37404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4376520" y="2791800"/>
                <a:ext cx="252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•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9" name=""/>
          <p:cNvGrpSpPr/>
          <p:nvPr/>
        </p:nvGrpSpPr>
        <p:grpSpPr>
          <a:xfrm>
            <a:off x="1004760" y="1584360"/>
            <a:ext cx="2138040" cy="2036520"/>
            <a:chOff x="1004760" y="1584360"/>
            <a:chExt cx="2138040" cy="2036520"/>
          </a:xfrm>
        </p:grpSpPr>
        <p:grpSp>
          <p:nvGrpSpPr>
            <p:cNvPr id="710" name=""/>
            <p:cNvGrpSpPr/>
            <p:nvPr/>
          </p:nvGrpSpPr>
          <p:grpSpPr>
            <a:xfrm>
              <a:off x="1004760" y="1584360"/>
              <a:ext cx="2138040" cy="2036520"/>
              <a:chOff x="1004760" y="1584360"/>
              <a:chExt cx="2138040" cy="2036520"/>
            </a:xfrm>
          </p:grpSpPr>
          <p:grpSp>
            <p:nvGrpSpPr>
              <p:cNvPr id="711" name=""/>
              <p:cNvGrpSpPr/>
              <p:nvPr/>
            </p:nvGrpSpPr>
            <p:grpSpPr>
              <a:xfrm>
                <a:off x="1004760" y="2400840"/>
                <a:ext cx="2138040" cy="406800"/>
                <a:chOff x="1004760" y="2400840"/>
                <a:chExt cx="2138040" cy="406800"/>
              </a:xfrm>
            </p:grpSpPr>
            <p:sp>
              <p:nvSpPr>
                <p:cNvPr id="712" name=""/>
                <p:cNvSpPr/>
                <p:nvPr/>
              </p:nvSpPr>
              <p:spPr>
                <a:xfrm>
                  <a:off x="1432440" y="2400840"/>
                  <a:ext cx="42768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3" name=""/>
                <p:cNvSpPr/>
                <p:nvPr/>
              </p:nvSpPr>
              <p:spPr>
                <a:xfrm>
                  <a:off x="1860480" y="2400840"/>
                  <a:ext cx="426240" cy="40680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4" name=""/>
                <p:cNvSpPr/>
                <p:nvPr/>
              </p:nvSpPr>
              <p:spPr>
                <a:xfrm>
                  <a:off x="228672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"/>
                <p:cNvSpPr/>
                <p:nvPr/>
              </p:nvSpPr>
              <p:spPr>
                <a:xfrm>
                  <a:off x="1004760" y="2400840"/>
                  <a:ext cx="42768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6" name=""/>
                <p:cNvSpPr/>
                <p:nvPr/>
              </p:nvSpPr>
              <p:spPr>
                <a:xfrm>
                  <a:off x="2714760" y="2400840"/>
                  <a:ext cx="428040" cy="406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7" name=""/>
              <p:cNvGrpSpPr/>
              <p:nvPr/>
            </p:nvGrpSpPr>
            <p:grpSpPr>
              <a:xfrm>
                <a:off x="1004760" y="1992240"/>
                <a:ext cx="2138040" cy="408240"/>
                <a:chOff x="1004760" y="1992240"/>
                <a:chExt cx="2138040" cy="408240"/>
              </a:xfrm>
            </p:grpSpPr>
            <p:sp>
              <p:nvSpPr>
                <p:cNvPr id="718" name=""/>
                <p:cNvSpPr/>
                <p:nvPr/>
              </p:nvSpPr>
              <p:spPr>
                <a:xfrm>
                  <a:off x="1432440" y="19922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9" name=""/>
                <p:cNvSpPr/>
                <p:nvPr/>
              </p:nvSpPr>
              <p:spPr>
                <a:xfrm>
                  <a:off x="1860480" y="19922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0" name=""/>
                <p:cNvSpPr/>
                <p:nvPr/>
              </p:nvSpPr>
              <p:spPr>
                <a:xfrm>
                  <a:off x="228672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1" name=""/>
                <p:cNvSpPr/>
                <p:nvPr/>
              </p:nvSpPr>
              <p:spPr>
                <a:xfrm>
                  <a:off x="1004760" y="19922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2" name=""/>
                <p:cNvSpPr/>
                <p:nvPr/>
              </p:nvSpPr>
              <p:spPr>
                <a:xfrm>
                  <a:off x="2714760" y="19922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3" name=""/>
              <p:cNvGrpSpPr/>
              <p:nvPr/>
            </p:nvGrpSpPr>
            <p:grpSpPr>
              <a:xfrm>
                <a:off x="1004760" y="3212640"/>
                <a:ext cx="2138040" cy="408240"/>
                <a:chOff x="1004760" y="3212640"/>
                <a:chExt cx="2138040" cy="408240"/>
              </a:xfrm>
            </p:grpSpPr>
            <p:sp>
              <p:nvSpPr>
                <p:cNvPr id="724" name=""/>
                <p:cNvSpPr/>
                <p:nvPr/>
              </p:nvSpPr>
              <p:spPr>
                <a:xfrm>
                  <a:off x="100476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5" name=""/>
                <p:cNvSpPr/>
                <p:nvPr/>
              </p:nvSpPr>
              <p:spPr>
                <a:xfrm>
                  <a:off x="143244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6" name=""/>
                <p:cNvSpPr/>
                <p:nvPr/>
              </p:nvSpPr>
              <p:spPr>
                <a:xfrm>
                  <a:off x="1860480" y="321264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7" name=""/>
                <p:cNvSpPr/>
                <p:nvPr/>
              </p:nvSpPr>
              <p:spPr>
                <a:xfrm>
                  <a:off x="2286720" y="3212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8" name=""/>
                <p:cNvSpPr/>
                <p:nvPr/>
              </p:nvSpPr>
              <p:spPr>
                <a:xfrm>
                  <a:off x="2714760" y="3212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9" name=""/>
              <p:cNvGrpSpPr/>
              <p:nvPr/>
            </p:nvGrpSpPr>
            <p:grpSpPr>
              <a:xfrm>
                <a:off x="1004760" y="1584360"/>
                <a:ext cx="2138040" cy="407880"/>
                <a:chOff x="1004760" y="1584360"/>
                <a:chExt cx="2138040" cy="407880"/>
              </a:xfrm>
            </p:grpSpPr>
            <p:sp>
              <p:nvSpPr>
                <p:cNvPr id="730" name=""/>
                <p:cNvSpPr/>
                <p:nvPr/>
              </p:nvSpPr>
              <p:spPr>
                <a:xfrm>
                  <a:off x="143244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"/>
                <p:cNvSpPr/>
                <p:nvPr/>
              </p:nvSpPr>
              <p:spPr>
                <a:xfrm>
                  <a:off x="100476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"/>
                <p:cNvSpPr/>
                <p:nvPr/>
              </p:nvSpPr>
              <p:spPr>
                <a:xfrm>
                  <a:off x="1860480" y="15843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"/>
                <p:cNvSpPr/>
                <p:nvPr/>
              </p:nvSpPr>
              <p:spPr>
                <a:xfrm>
                  <a:off x="2286720" y="15843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2714760" y="15843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1004760" y="2804760"/>
                <a:ext cx="2138040" cy="407880"/>
                <a:chOff x="1004760" y="2804760"/>
                <a:chExt cx="2138040" cy="407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1432440" y="280476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1860480" y="280476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8" name=""/>
                <p:cNvSpPr/>
                <p:nvPr/>
              </p:nvSpPr>
              <p:spPr>
                <a:xfrm>
                  <a:off x="100476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"/>
                <p:cNvSpPr/>
                <p:nvPr/>
              </p:nvSpPr>
              <p:spPr>
                <a:xfrm>
                  <a:off x="2286720" y="280476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"/>
                <p:cNvSpPr/>
                <p:nvPr/>
              </p:nvSpPr>
              <p:spPr>
                <a:xfrm>
                  <a:off x="2714760" y="280476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41" name=""/>
            <p:cNvGrpSpPr/>
            <p:nvPr/>
          </p:nvGrpSpPr>
          <p:grpSpPr>
            <a:xfrm>
              <a:off x="1645200" y="1743840"/>
              <a:ext cx="418680" cy="1734840"/>
              <a:chOff x="1645200" y="1743840"/>
              <a:chExt cx="418680" cy="1734840"/>
            </a:xfrm>
          </p:grpSpPr>
          <p:sp>
            <p:nvSpPr>
              <p:cNvPr id="742" name=""/>
              <p:cNvSpPr/>
              <p:nvPr/>
            </p:nvSpPr>
            <p:spPr>
              <a:xfrm flipV="1">
                <a:off x="1650960" y="306036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1650960" y="262476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1645200" y="217872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1645200" y="1743840"/>
                <a:ext cx="0" cy="41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2063880" y="261360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1668240" y="220680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48" name=""/>
          <p:cNvGrpSpPr/>
          <p:nvPr/>
        </p:nvGrpSpPr>
        <p:grpSpPr>
          <a:xfrm>
            <a:off x="1004760" y="4400640"/>
            <a:ext cx="2138040" cy="2036160"/>
            <a:chOff x="1004760" y="4400640"/>
            <a:chExt cx="2138040" cy="2036160"/>
          </a:xfrm>
        </p:grpSpPr>
        <p:grpSp>
          <p:nvGrpSpPr>
            <p:cNvPr id="749" name=""/>
            <p:cNvGrpSpPr/>
            <p:nvPr/>
          </p:nvGrpSpPr>
          <p:grpSpPr>
            <a:xfrm>
              <a:off x="1004760" y="4400640"/>
              <a:ext cx="2138040" cy="2036160"/>
              <a:chOff x="1004760" y="4400640"/>
              <a:chExt cx="2138040" cy="2036160"/>
            </a:xfrm>
          </p:grpSpPr>
          <p:grpSp>
            <p:nvGrpSpPr>
              <p:cNvPr id="750" name=""/>
              <p:cNvGrpSpPr/>
              <p:nvPr/>
            </p:nvGrpSpPr>
            <p:grpSpPr>
              <a:xfrm>
                <a:off x="1004760" y="5216760"/>
                <a:ext cx="2138040" cy="406440"/>
                <a:chOff x="1004760" y="5216760"/>
                <a:chExt cx="2138040" cy="406440"/>
              </a:xfrm>
            </p:grpSpPr>
            <p:sp>
              <p:nvSpPr>
                <p:cNvPr id="751" name=""/>
                <p:cNvSpPr/>
                <p:nvPr/>
              </p:nvSpPr>
              <p:spPr>
                <a:xfrm>
                  <a:off x="14324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2" name=""/>
                <p:cNvSpPr/>
                <p:nvPr/>
              </p:nvSpPr>
              <p:spPr>
                <a:xfrm>
                  <a:off x="1860480" y="5216760"/>
                  <a:ext cx="4262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3" name=""/>
                <p:cNvSpPr/>
                <p:nvPr/>
              </p:nvSpPr>
              <p:spPr>
                <a:xfrm>
                  <a:off x="22867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4" name=""/>
                <p:cNvSpPr/>
                <p:nvPr/>
              </p:nvSpPr>
              <p:spPr>
                <a:xfrm>
                  <a:off x="100476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5" name=""/>
                <p:cNvSpPr/>
                <p:nvPr/>
              </p:nvSpPr>
              <p:spPr>
                <a:xfrm>
                  <a:off x="271476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1004760" y="4808520"/>
                <a:ext cx="2138040" cy="408240"/>
                <a:chOff x="1004760" y="4808520"/>
                <a:chExt cx="2138040" cy="408240"/>
              </a:xfrm>
            </p:grpSpPr>
            <p:sp>
              <p:nvSpPr>
                <p:cNvPr id="757" name=""/>
                <p:cNvSpPr/>
                <p:nvPr/>
              </p:nvSpPr>
              <p:spPr>
                <a:xfrm>
                  <a:off x="1432440" y="480852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8" name=""/>
                <p:cNvSpPr/>
                <p:nvPr/>
              </p:nvSpPr>
              <p:spPr>
                <a:xfrm>
                  <a:off x="1860480" y="480852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9" name=""/>
                <p:cNvSpPr/>
                <p:nvPr/>
              </p:nvSpPr>
              <p:spPr>
                <a:xfrm>
                  <a:off x="22867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0" name=""/>
                <p:cNvSpPr/>
                <p:nvPr/>
              </p:nvSpPr>
              <p:spPr>
                <a:xfrm>
                  <a:off x="100476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1" name=""/>
                <p:cNvSpPr/>
                <p:nvPr/>
              </p:nvSpPr>
              <p:spPr>
                <a:xfrm>
                  <a:off x="2714760" y="480852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2" name=""/>
              <p:cNvGrpSpPr/>
              <p:nvPr/>
            </p:nvGrpSpPr>
            <p:grpSpPr>
              <a:xfrm>
                <a:off x="1004760" y="6028560"/>
                <a:ext cx="2138040" cy="408240"/>
                <a:chOff x="1004760" y="6028560"/>
                <a:chExt cx="2138040" cy="408240"/>
              </a:xfrm>
            </p:grpSpPr>
            <p:sp>
              <p:nvSpPr>
                <p:cNvPr id="763" name=""/>
                <p:cNvSpPr/>
                <p:nvPr/>
              </p:nvSpPr>
              <p:spPr>
                <a:xfrm>
                  <a:off x="100476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4" name=""/>
                <p:cNvSpPr/>
                <p:nvPr/>
              </p:nvSpPr>
              <p:spPr>
                <a:xfrm>
                  <a:off x="143244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5" name=""/>
                <p:cNvSpPr/>
                <p:nvPr/>
              </p:nvSpPr>
              <p:spPr>
                <a:xfrm>
                  <a:off x="1860480" y="6028560"/>
                  <a:ext cx="4262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6" name=""/>
                <p:cNvSpPr/>
                <p:nvPr/>
              </p:nvSpPr>
              <p:spPr>
                <a:xfrm>
                  <a:off x="22867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7" name=""/>
                <p:cNvSpPr/>
                <p:nvPr/>
              </p:nvSpPr>
              <p:spPr>
                <a:xfrm>
                  <a:off x="2714760" y="602856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8" name=""/>
              <p:cNvGrpSpPr/>
              <p:nvPr/>
            </p:nvGrpSpPr>
            <p:grpSpPr>
              <a:xfrm>
                <a:off x="1004760" y="4400640"/>
                <a:ext cx="2138040" cy="407880"/>
                <a:chOff x="1004760" y="4400640"/>
                <a:chExt cx="2138040" cy="407880"/>
              </a:xfrm>
            </p:grpSpPr>
            <p:sp>
              <p:nvSpPr>
                <p:cNvPr id="769" name=""/>
                <p:cNvSpPr/>
                <p:nvPr/>
              </p:nvSpPr>
              <p:spPr>
                <a:xfrm>
                  <a:off x="143244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0" name=""/>
                <p:cNvSpPr/>
                <p:nvPr/>
              </p:nvSpPr>
              <p:spPr>
                <a:xfrm>
                  <a:off x="100476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1" name=""/>
                <p:cNvSpPr/>
                <p:nvPr/>
              </p:nvSpPr>
              <p:spPr>
                <a:xfrm>
                  <a:off x="1860480" y="440064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2" name=""/>
                <p:cNvSpPr/>
                <p:nvPr/>
              </p:nvSpPr>
              <p:spPr>
                <a:xfrm>
                  <a:off x="22867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3" name=""/>
                <p:cNvSpPr/>
                <p:nvPr/>
              </p:nvSpPr>
              <p:spPr>
                <a:xfrm>
                  <a:off x="2714760" y="440064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4" name=""/>
              <p:cNvGrpSpPr/>
              <p:nvPr/>
            </p:nvGrpSpPr>
            <p:grpSpPr>
              <a:xfrm>
                <a:off x="1004760" y="5620680"/>
                <a:ext cx="2138040" cy="407880"/>
                <a:chOff x="1004760" y="5620680"/>
                <a:chExt cx="2138040" cy="407880"/>
              </a:xfrm>
            </p:grpSpPr>
            <p:sp>
              <p:nvSpPr>
                <p:cNvPr id="775" name=""/>
                <p:cNvSpPr/>
                <p:nvPr/>
              </p:nvSpPr>
              <p:spPr>
                <a:xfrm>
                  <a:off x="1432440" y="56206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6" name=""/>
                <p:cNvSpPr/>
                <p:nvPr/>
              </p:nvSpPr>
              <p:spPr>
                <a:xfrm>
                  <a:off x="1860480" y="5620680"/>
                  <a:ext cx="4262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7" name=""/>
                <p:cNvSpPr/>
                <p:nvPr/>
              </p:nvSpPr>
              <p:spPr>
                <a:xfrm>
                  <a:off x="100476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8" name=""/>
                <p:cNvSpPr/>
                <p:nvPr/>
              </p:nvSpPr>
              <p:spPr>
                <a:xfrm>
                  <a:off x="22867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9" name=""/>
                <p:cNvSpPr/>
                <p:nvPr/>
              </p:nvSpPr>
              <p:spPr>
                <a:xfrm>
                  <a:off x="2714760" y="56206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80" name=""/>
            <p:cNvGrpSpPr/>
            <p:nvPr/>
          </p:nvGrpSpPr>
          <p:grpSpPr>
            <a:xfrm>
              <a:off x="1644840" y="5006160"/>
              <a:ext cx="425160" cy="1253880"/>
              <a:chOff x="1644840" y="5006160"/>
              <a:chExt cx="425160" cy="1253880"/>
            </a:xfrm>
          </p:grpSpPr>
          <p:sp>
            <p:nvSpPr>
              <p:cNvPr id="781" name=""/>
              <p:cNvSpPr/>
              <p:nvPr/>
            </p:nvSpPr>
            <p:spPr>
              <a:xfrm flipV="1">
                <a:off x="16506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16506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644840" y="5006160"/>
                <a:ext cx="42516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1680480" y="5424120"/>
                <a:ext cx="37728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V="1">
                <a:off x="16506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6" name=""/>
          <p:cNvGrpSpPr/>
          <p:nvPr/>
        </p:nvGrpSpPr>
        <p:grpSpPr>
          <a:xfrm>
            <a:off x="3849840" y="4400640"/>
            <a:ext cx="2137680" cy="2036160"/>
            <a:chOff x="3849840" y="4400640"/>
            <a:chExt cx="2137680" cy="2036160"/>
          </a:xfrm>
        </p:grpSpPr>
        <p:grpSp>
          <p:nvGrpSpPr>
            <p:cNvPr id="787" name=""/>
            <p:cNvGrpSpPr/>
            <p:nvPr/>
          </p:nvGrpSpPr>
          <p:grpSpPr>
            <a:xfrm>
              <a:off x="3849840" y="4400640"/>
              <a:ext cx="2137680" cy="2036160"/>
              <a:chOff x="3849840" y="4400640"/>
              <a:chExt cx="2137680" cy="2036160"/>
            </a:xfrm>
          </p:grpSpPr>
          <p:grpSp>
            <p:nvGrpSpPr>
              <p:cNvPr id="788" name=""/>
              <p:cNvGrpSpPr/>
              <p:nvPr/>
            </p:nvGrpSpPr>
            <p:grpSpPr>
              <a:xfrm>
                <a:off x="3849840" y="5216760"/>
                <a:ext cx="2137680" cy="406440"/>
                <a:chOff x="3849840" y="5216760"/>
                <a:chExt cx="2137680" cy="406440"/>
              </a:xfrm>
            </p:grpSpPr>
            <p:sp>
              <p:nvSpPr>
                <p:cNvPr id="789" name=""/>
                <p:cNvSpPr/>
                <p:nvPr/>
              </p:nvSpPr>
              <p:spPr>
                <a:xfrm>
                  <a:off x="4277520" y="5216760"/>
                  <a:ext cx="42804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0" name=""/>
                <p:cNvSpPr/>
                <p:nvPr/>
              </p:nvSpPr>
              <p:spPr>
                <a:xfrm>
                  <a:off x="4705560" y="5216760"/>
                  <a:ext cx="4258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>
                  <a:off x="5131800" y="5216760"/>
                  <a:ext cx="42804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3849840" y="5216760"/>
                  <a:ext cx="4276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555984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3849840" y="4808880"/>
                <a:ext cx="2137680" cy="407880"/>
                <a:chOff x="3849840" y="4808880"/>
                <a:chExt cx="2137680" cy="4078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4277520" y="480888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4705560" y="480888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>
                  <a:off x="5131800" y="480888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8" name=""/>
                <p:cNvSpPr/>
                <p:nvPr/>
              </p:nvSpPr>
              <p:spPr>
                <a:xfrm>
                  <a:off x="3849840" y="480888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9" name=""/>
                <p:cNvSpPr/>
                <p:nvPr/>
              </p:nvSpPr>
              <p:spPr>
                <a:xfrm>
                  <a:off x="5559840" y="48088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0" name=""/>
              <p:cNvGrpSpPr/>
              <p:nvPr/>
            </p:nvGrpSpPr>
            <p:grpSpPr>
              <a:xfrm>
                <a:off x="3849840" y="6028920"/>
                <a:ext cx="2137680" cy="407880"/>
                <a:chOff x="3849840" y="6028920"/>
                <a:chExt cx="2137680" cy="407880"/>
              </a:xfrm>
            </p:grpSpPr>
            <p:sp>
              <p:nvSpPr>
                <p:cNvPr id="801" name=""/>
                <p:cNvSpPr/>
                <p:nvPr/>
              </p:nvSpPr>
              <p:spPr>
                <a:xfrm>
                  <a:off x="3849840" y="6028920"/>
                  <a:ext cx="4276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2" name=""/>
                <p:cNvSpPr/>
                <p:nvPr/>
              </p:nvSpPr>
              <p:spPr>
                <a:xfrm>
                  <a:off x="4277520" y="6028920"/>
                  <a:ext cx="42804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3" name=""/>
                <p:cNvSpPr/>
                <p:nvPr/>
              </p:nvSpPr>
              <p:spPr>
                <a:xfrm>
                  <a:off x="4705560" y="6028920"/>
                  <a:ext cx="42588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4" name=""/>
                <p:cNvSpPr/>
                <p:nvPr/>
              </p:nvSpPr>
              <p:spPr>
                <a:xfrm>
                  <a:off x="5131800" y="6028920"/>
                  <a:ext cx="42804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5" name=""/>
                <p:cNvSpPr/>
                <p:nvPr/>
              </p:nvSpPr>
              <p:spPr>
                <a:xfrm>
                  <a:off x="5559840" y="602892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6" name=""/>
              <p:cNvGrpSpPr/>
              <p:nvPr/>
            </p:nvGrpSpPr>
            <p:grpSpPr>
              <a:xfrm>
                <a:off x="3849840" y="4400640"/>
                <a:ext cx="2137680" cy="408240"/>
                <a:chOff x="3849840" y="4400640"/>
                <a:chExt cx="2137680" cy="408240"/>
              </a:xfrm>
            </p:grpSpPr>
            <p:sp>
              <p:nvSpPr>
                <p:cNvPr id="807" name=""/>
                <p:cNvSpPr/>
                <p:nvPr/>
              </p:nvSpPr>
              <p:spPr>
                <a:xfrm>
                  <a:off x="4277520" y="440064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8" name=""/>
                <p:cNvSpPr/>
                <p:nvPr/>
              </p:nvSpPr>
              <p:spPr>
                <a:xfrm>
                  <a:off x="3849840" y="440064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9" name=""/>
                <p:cNvSpPr/>
                <p:nvPr/>
              </p:nvSpPr>
              <p:spPr>
                <a:xfrm>
                  <a:off x="4705560" y="440064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0" name=""/>
                <p:cNvSpPr/>
                <p:nvPr/>
              </p:nvSpPr>
              <p:spPr>
                <a:xfrm>
                  <a:off x="5131800" y="440064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1" name=""/>
                <p:cNvSpPr/>
                <p:nvPr/>
              </p:nvSpPr>
              <p:spPr>
                <a:xfrm>
                  <a:off x="5559840" y="440064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2" name=""/>
              <p:cNvGrpSpPr/>
              <p:nvPr/>
            </p:nvGrpSpPr>
            <p:grpSpPr>
              <a:xfrm>
                <a:off x="3849840" y="5620680"/>
                <a:ext cx="2137680" cy="408240"/>
                <a:chOff x="3849840" y="5620680"/>
                <a:chExt cx="2137680" cy="408240"/>
              </a:xfrm>
            </p:grpSpPr>
            <p:sp>
              <p:nvSpPr>
                <p:cNvPr id="813" name=""/>
                <p:cNvSpPr/>
                <p:nvPr/>
              </p:nvSpPr>
              <p:spPr>
                <a:xfrm>
                  <a:off x="4277520" y="5620680"/>
                  <a:ext cx="42804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4" name=""/>
                <p:cNvSpPr/>
                <p:nvPr/>
              </p:nvSpPr>
              <p:spPr>
                <a:xfrm>
                  <a:off x="4705560" y="5620680"/>
                  <a:ext cx="4258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5" name=""/>
                <p:cNvSpPr/>
                <p:nvPr/>
              </p:nvSpPr>
              <p:spPr>
                <a:xfrm>
                  <a:off x="3849840" y="5620680"/>
                  <a:ext cx="42768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6" name=""/>
                <p:cNvSpPr/>
                <p:nvPr/>
              </p:nvSpPr>
              <p:spPr>
                <a:xfrm>
                  <a:off x="5131800" y="5620680"/>
                  <a:ext cx="42804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7" name=""/>
                <p:cNvSpPr/>
                <p:nvPr/>
              </p:nvSpPr>
              <p:spPr>
                <a:xfrm>
                  <a:off x="5559840" y="562068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8" name=""/>
            <p:cNvSpPr/>
            <p:nvPr/>
          </p:nvSpPr>
          <p:spPr>
            <a:xfrm>
              <a:off x="4336920" y="443808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6694560" y="4400640"/>
            <a:ext cx="2136240" cy="2036160"/>
            <a:chOff x="6694560" y="4400640"/>
            <a:chExt cx="2136240" cy="2036160"/>
          </a:xfrm>
        </p:grpSpPr>
        <p:grpSp>
          <p:nvGrpSpPr>
            <p:cNvPr id="820" name=""/>
            <p:cNvGrpSpPr/>
            <p:nvPr/>
          </p:nvGrpSpPr>
          <p:grpSpPr>
            <a:xfrm>
              <a:off x="6694560" y="4400640"/>
              <a:ext cx="2136240" cy="2036160"/>
              <a:chOff x="6694560" y="4400640"/>
              <a:chExt cx="2136240" cy="2036160"/>
            </a:xfrm>
          </p:grpSpPr>
          <p:grpSp>
            <p:nvGrpSpPr>
              <p:cNvPr id="821" name=""/>
              <p:cNvGrpSpPr/>
              <p:nvPr/>
            </p:nvGrpSpPr>
            <p:grpSpPr>
              <a:xfrm>
                <a:off x="6694560" y="5216760"/>
                <a:ext cx="2136240" cy="406440"/>
                <a:chOff x="6694560" y="5216760"/>
                <a:chExt cx="2136240" cy="406440"/>
              </a:xfrm>
            </p:grpSpPr>
            <p:sp>
              <p:nvSpPr>
                <p:cNvPr id="822" name=""/>
                <p:cNvSpPr/>
                <p:nvPr/>
              </p:nvSpPr>
              <p:spPr>
                <a:xfrm>
                  <a:off x="7121880" y="5216760"/>
                  <a:ext cx="42732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7549560" y="5216760"/>
                  <a:ext cx="425880" cy="4064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4" name=""/>
                <p:cNvSpPr/>
                <p:nvPr/>
              </p:nvSpPr>
              <p:spPr>
                <a:xfrm>
                  <a:off x="797544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5" name=""/>
                <p:cNvSpPr/>
                <p:nvPr/>
              </p:nvSpPr>
              <p:spPr>
                <a:xfrm>
                  <a:off x="6694560" y="5216760"/>
                  <a:ext cx="42732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6" name=""/>
                <p:cNvSpPr/>
                <p:nvPr/>
              </p:nvSpPr>
              <p:spPr>
                <a:xfrm>
                  <a:off x="8403120" y="5216760"/>
                  <a:ext cx="427680" cy="4064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7" name=""/>
              <p:cNvGrpSpPr/>
              <p:nvPr/>
            </p:nvGrpSpPr>
            <p:grpSpPr>
              <a:xfrm>
                <a:off x="6694560" y="4808520"/>
                <a:ext cx="2136240" cy="408240"/>
                <a:chOff x="6694560" y="4808520"/>
                <a:chExt cx="2136240" cy="408240"/>
              </a:xfrm>
            </p:grpSpPr>
            <p:sp>
              <p:nvSpPr>
                <p:cNvPr id="828" name=""/>
                <p:cNvSpPr/>
                <p:nvPr/>
              </p:nvSpPr>
              <p:spPr>
                <a:xfrm>
                  <a:off x="7121880" y="4808520"/>
                  <a:ext cx="427320" cy="40824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9" name=""/>
                <p:cNvSpPr/>
                <p:nvPr/>
              </p:nvSpPr>
              <p:spPr>
                <a:xfrm>
                  <a:off x="7549560" y="480852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0" name=""/>
                <p:cNvSpPr/>
                <p:nvPr/>
              </p:nvSpPr>
              <p:spPr>
                <a:xfrm>
                  <a:off x="797544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1" name=""/>
                <p:cNvSpPr/>
                <p:nvPr/>
              </p:nvSpPr>
              <p:spPr>
                <a:xfrm>
                  <a:off x="6694560" y="480852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2" name=""/>
                <p:cNvSpPr/>
                <p:nvPr/>
              </p:nvSpPr>
              <p:spPr>
                <a:xfrm>
                  <a:off x="8403120" y="480852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3" name=""/>
              <p:cNvGrpSpPr/>
              <p:nvPr/>
            </p:nvGrpSpPr>
            <p:grpSpPr>
              <a:xfrm>
                <a:off x="6694560" y="6028560"/>
                <a:ext cx="2136240" cy="408240"/>
                <a:chOff x="6694560" y="6028560"/>
                <a:chExt cx="2136240" cy="408240"/>
              </a:xfrm>
            </p:grpSpPr>
            <p:sp>
              <p:nvSpPr>
                <p:cNvPr id="834" name=""/>
                <p:cNvSpPr/>
                <p:nvPr/>
              </p:nvSpPr>
              <p:spPr>
                <a:xfrm>
                  <a:off x="669456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5" name=""/>
                <p:cNvSpPr/>
                <p:nvPr/>
              </p:nvSpPr>
              <p:spPr>
                <a:xfrm>
                  <a:off x="712188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6" name=""/>
                <p:cNvSpPr/>
                <p:nvPr/>
              </p:nvSpPr>
              <p:spPr>
                <a:xfrm>
                  <a:off x="7549560" y="6028560"/>
                  <a:ext cx="4258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"/>
                <p:cNvSpPr/>
                <p:nvPr/>
              </p:nvSpPr>
              <p:spPr>
                <a:xfrm>
                  <a:off x="7975440" y="6028560"/>
                  <a:ext cx="42732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8" name=""/>
                <p:cNvSpPr/>
                <p:nvPr/>
              </p:nvSpPr>
              <p:spPr>
                <a:xfrm>
                  <a:off x="8403120" y="6028560"/>
                  <a:ext cx="427680" cy="4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9" name=""/>
              <p:cNvGrpSpPr/>
              <p:nvPr/>
            </p:nvGrpSpPr>
            <p:grpSpPr>
              <a:xfrm>
                <a:off x="6694560" y="4400640"/>
                <a:ext cx="2136240" cy="407880"/>
                <a:chOff x="6694560" y="4400640"/>
                <a:chExt cx="2136240" cy="407880"/>
              </a:xfrm>
            </p:grpSpPr>
            <p:sp>
              <p:nvSpPr>
                <p:cNvPr id="840" name=""/>
                <p:cNvSpPr/>
                <p:nvPr/>
              </p:nvSpPr>
              <p:spPr>
                <a:xfrm>
                  <a:off x="712188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1" name=""/>
                <p:cNvSpPr/>
                <p:nvPr/>
              </p:nvSpPr>
              <p:spPr>
                <a:xfrm>
                  <a:off x="669456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2" name=""/>
                <p:cNvSpPr/>
                <p:nvPr/>
              </p:nvSpPr>
              <p:spPr>
                <a:xfrm>
                  <a:off x="7549560" y="440064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3" name=""/>
                <p:cNvSpPr/>
                <p:nvPr/>
              </p:nvSpPr>
              <p:spPr>
                <a:xfrm>
                  <a:off x="7975440" y="440064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4" name=""/>
                <p:cNvSpPr/>
                <p:nvPr/>
              </p:nvSpPr>
              <p:spPr>
                <a:xfrm>
                  <a:off x="8403120" y="440064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5" name=""/>
              <p:cNvGrpSpPr/>
              <p:nvPr/>
            </p:nvGrpSpPr>
            <p:grpSpPr>
              <a:xfrm>
                <a:off x="6694560" y="5620680"/>
                <a:ext cx="2136240" cy="407880"/>
                <a:chOff x="6694560" y="5620680"/>
                <a:chExt cx="2136240" cy="407880"/>
              </a:xfrm>
            </p:grpSpPr>
            <p:sp>
              <p:nvSpPr>
                <p:cNvPr id="846" name=""/>
                <p:cNvSpPr/>
                <p:nvPr/>
              </p:nvSpPr>
              <p:spPr>
                <a:xfrm>
                  <a:off x="7121880" y="5620680"/>
                  <a:ext cx="427320" cy="407880"/>
                </a:xfrm>
                <a:prstGeom prst="rect">
                  <a:avLst/>
                </a:prstGeom>
                <a:solidFill>
                  <a:srgbClr val="808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7" name=""/>
                <p:cNvSpPr/>
                <p:nvPr/>
              </p:nvSpPr>
              <p:spPr>
                <a:xfrm>
                  <a:off x="7549560" y="5620680"/>
                  <a:ext cx="4258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8" name=""/>
                <p:cNvSpPr/>
                <p:nvPr/>
              </p:nvSpPr>
              <p:spPr>
                <a:xfrm>
                  <a:off x="669456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9" name=""/>
                <p:cNvSpPr/>
                <p:nvPr/>
              </p:nvSpPr>
              <p:spPr>
                <a:xfrm>
                  <a:off x="7975440" y="5620680"/>
                  <a:ext cx="42732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0" name=""/>
                <p:cNvSpPr/>
                <p:nvPr/>
              </p:nvSpPr>
              <p:spPr>
                <a:xfrm>
                  <a:off x="8403120" y="5620680"/>
                  <a:ext cx="427680" cy="4078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51" name=""/>
            <p:cNvGrpSpPr/>
            <p:nvPr/>
          </p:nvGrpSpPr>
          <p:grpSpPr>
            <a:xfrm>
              <a:off x="7340400" y="4610880"/>
              <a:ext cx="406080" cy="1649160"/>
              <a:chOff x="7340400" y="4610880"/>
              <a:chExt cx="406080" cy="1649160"/>
            </a:xfrm>
          </p:grpSpPr>
          <p:sp>
            <p:nvSpPr>
              <p:cNvPr id="852" name=""/>
              <p:cNvSpPr/>
              <p:nvPr/>
            </p:nvSpPr>
            <p:spPr>
              <a:xfrm flipV="1">
                <a:off x="7340400" y="5842080"/>
                <a:ext cx="0" cy="41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7340400" y="544140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7369560" y="5424120"/>
                <a:ext cx="376920" cy="36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V="1">
                <a:off x="7340400" y="5022720"/>
                <a:ext cx="0" cy="38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V="1">
                <a:off x="7340400" y="4610880"/>
                <a:ext cx="0" cy="38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57" name=""/>
          <p:cNvSpPr/>
          <p:nvPr/>
        </p:nvSpPr>
        <p:spPr>
          <a:xfrm>
            <a:off x="3833640" y="1108440"/>
            <a:ext cx="96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53640" y="1146600"/>
            <a:ext cx="137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pographic l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68400" y="3802320"/>
            <a:ext cx="2278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replacing pit by topographic direc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3748320" y="3783240"/>
            <a:ext cx="1779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-cell neighb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+ Lowest neighb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632640" y="3786480"/>
            <a:ext cx="2582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llage ldd after circl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progra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954000" y="6105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igur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13:06:54Z</dcterms:created>
  <dc:creator>Ruud van Scheppingen</dc:creator>
  <dc:description/>
  <dc:language>en-US</dc:language>
  <cp:lastModifiedBy>Ingrid Takken</cp:lastModifiedBy>
  <cp:lastPrinted>1999-11-30T16:49:20Z</cp:lastPrinted>
  <dcterms:modified xsi:type="dcterms:W3CDTF">2000-12-21T18:58:47Z</dcterms:modified>
  <cp:revision>246</cp:revision>
  <dc:subject/>
  <dc:title>Geen diatitel</dc:title>
</cp:coreProperties>
</file>