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134-1864-4930-827D-43D27E32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372-6C4D-4025-BAD8-5CC25AD4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4DD-14FA-4895-8ECC-99FCBCDC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14C-6A17-4A15-9BC9-77F220EB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58F-5164-4C78-A502-BA6EE378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B54-8399-4C70-9E22-44342D85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8AF-AA19-4075-8B39-030F3E3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352-9AE2-47CF-978A-760D2BB7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9FD8-0C26-422D-8CFC-47231080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78D-133C-489D-859E-C775774F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F1E-E462-4CA1-8C18-027AB94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85C-7226-4A01-B200-3C9B9A7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91EB-5E82-48D5-8A19-DC91D650226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4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0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19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26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33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4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5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6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0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2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7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182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84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57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64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7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85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1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Header_text"/>
          <p:cNvSpPr/>
          <p:nvPr/>
        </p:nvSpPr>
        <p:spPr>
          <a:xfrm>
            <a:off x="179280" y="27000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: 20221224_Ad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Name: TU Del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Header_pic" descr=""/>
          <p:cNvPicPr/>
          <p:nvPr/>
        </p:nvPicPr>
        <p:blipFill>
          <a:blip r:embed="rId1"/>
          <a:stretch/>
        </p:blipFill>
        <p:spPr>
          <a:xfrm>
            <a:off x="11420640" y="270000"/>
            <a:ext cx="574560" cy="645840"/>
          </a:xfrm>
          <a:prstGeom prst="rect">
            <a:avLst/>
          </a:prstGeom>
          <a:ln w="0">
            <a:noFill/>
          </a:ln>
        </p:spPr>
      </p:pic>
      <p:sp>
        <p:nvSpPr>
          <p:cNvPr id="98" name="Footer_text"/>
          <p:cNvSpPr/>
          <p:nvPr/>
        </p:nvSpPr>
        <p:spPr>
          <a:xfrm>
            <a:off x="5778360" y="6477120"/>
            <a:ext cx="635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298440" y="1035000"/>
            <a:ext cx="5678640" cy="26384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6215040" y="1035000"/>
            <a:ext cx="5678640" cy="26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Typ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omic 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12 by 34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9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Resolu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24 by 68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 Pixel Siz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5 µ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. Voltag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.0 k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gnifica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298440" y="3782880"/>
            <a:ext cx="5678640" cy="263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6215040" y="3782880"/>
            <a:ext cx="567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23T13:15:30Z</dcterms:created>
  <dc:creator>supervisor</dc:creator>
  <dc:description/>
  <dc:language>en-US</dc:language>
  <cp:lastModifiedBy>supervisor</cp:lastModifiedBy>
  <dcterms:modified xsi:type="dcterms:W3CDTF">2022-12-23T14:46:22Z</dcterms:modified>
  <cp:revision>4</cp:revision>
  <dc:subject/>
  <dc:title>PowerPoint Presentation</dc:title>
</cp:coreProperties>
</file>