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AF3-FF38-499B-A4D2-A78016AF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19F-B999-4081-8143-E4982A1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86-8BF1-458F-B85E-52520822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1BB-116B-4A42-8A8D-4EF9164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4EF-4499-41CC-9462-CD9D4799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9E5-76D7-4A40-B3B0-99707150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992-4B33-4862-8C74-8942B3B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501-894E-4B35-9B7F-427C80A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882-8563-4894-A59D-3A306D35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421-F229-4BC7-BB5B-B373A220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D3E-2F96-47CE-A495-B0C4E43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6ED-5711-4F9C-8F52-150C5DB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09D9-40DC-49CB-B1A6-04C7D6C35A8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4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0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9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26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3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5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7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8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8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3:15:30Z</dcterms:created>
  <dc:creator>supervisor</dc:creator>
  <dc:description/>
  <dc:language>en-US</dc:language>
  <cp:lastModifiedBy>supervisor</cp:lastModifiedBy>
  <dcterms:modified xsi:type="dcterms:W3CDTF">2022-12-23T14:46:22Z</dcterms:modified>
  <cp:revision>4</cp:revision>
  <dc:subject/>
  <dc:title>PowerPoint Presentation</dc:title>
</cp:coreProperties>
</file>