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D35-1B6E-4F28-B844-17C0804B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290-D4DC-4D5F-9409-6E97E88B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76E-9FF8-4438-8BA7-57F56191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7CB-904B-494F-8D9F-1ADE1258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05A-1FD3-4232-952F-967C74CD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3C8-0EF8-4306-906F-FADF3556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29F-A4E1-4811-9CEC-2DD5F134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280-1922-4D91-B2A4-D9EE3F38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82D-7E09-4C69-9D46-D9CD295A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7A2-6988-4D66-B70B-5FFB4C80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6FF-EE62-44AF-A054-5BC2C82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D1E-76FD-4FCF-98D9-E985969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0FEA-B637-47BF-9197-7F882ADEC5A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43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0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12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19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26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33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40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47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54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6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6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50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7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82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57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64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7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7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8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9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9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3T13:15:30Z</dcterms:created>
  <dc:creator>supervisor</dc:creator>
  <dc:description/>
  <dc:language>en-US</dc:language>
  <cp:lastModifiedBy>supervisor</cp:lastModifiedBy>
  <dcterms:modified xsi:type="dcterms:W3CDTF">2022-12-23T14:46:22Z</dcterms:modified>
  <cp:revision>4</cp:revision>
  <dc:subject/>
  <dc:title>PowerPoint Presentation</dc:title>
</cp:coreProperties>
</file>